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331450" cy="7775575"/>
  <p:notesSz cx="7775575" cy="10331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870-4DF6-4FCD-8E58-43943134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4360" y="468324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CA8-B73B-4A80-A33A-D327AE87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78F-A347-4240-8EDF-8972073E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1364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436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1364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CCD-F6F7-47EF-A155-07B86A2B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7BE-EC5C-4091-AD96-54B401CC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26E-0028-4E07-8709-38E0384C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C37-07CF-4B6D-9C32-9B46EDEA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641-F251-4FAB-9B1A-449D0679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4360" y="690120"/>
            <a:ext cx="87822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E44-5FB7-4669-B854-5D9CB48F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392-5B14-4D6B-A462-62817001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49E-4C1C-4F6B-A07E-EDADAF0E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A70-6B35-4041-A410-6C24FA70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4720" y="7083360"/>
            <a:ext cx="2152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29080" y="7083360"/>
            <a:ext cx="32716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4120" y="7083360"/>
            <a:ext cx="2152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F7B5-91C8-4A2B-AA5F-085EA312BB0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0"/>
            <a:ext cx="10329840" cy="7774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892160"/>
            <a:ext cx="10331280" cy="182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0800" y="330480"/>
            <a:ext cx="8529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 and Canoe Ro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8640" y="3554280"/>
            <a:ext cx="85280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         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IP Open Hou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Toronto, November 24,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480" y="2251080"/>
            <a:ext cx="85280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ills start to erode and look like creek bed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90880" y="2681280"/>
            <a:ext cx="383544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2480" y="2251080"/>
            <a:ext cx="8528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Road work becomes necessary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in this case the ATVers brought in concrete to improve an eroded hill se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29040" y="3510000"/>
            <a:ext cx="54576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2251080"/>
            <a:ext cx="8528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Trails widen </a:t>
            </a: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(to width of vehicle) </a:t>
            </a:r>
            <a:r>
              <a:rPr b="1" lang="en-US" sz="1700" spc="-1" strike="noStrike">
                <a:solidFill>
                  <a:srgbClr val="ffffff"/>
                </a:solidFill>
                <a:latin typeface="News Gothic"/>
              </a:rPr>
              <a:t>and </a:t>
            </a: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drivers create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multiple tra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33480" y="2940120"/>
            <a:ext cx="2957400" cy="4456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33960" y="3067200"/>
            <a:ext cx="55353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2251080"/>
            <a:ext cx="8528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rails multiply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and chew into the forest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once a single trail, image created by walking all new trails with G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59120" y="3549600"/>
            <a:ext cx="32418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2480" y="2251080"/>
            <a:ext cx="85280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TVs spawn heavy duty us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with heavy duty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garb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3720" y="3695760"/>
            <a:ext cx="6604200" cy="381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08600" y="2657520"/>
            <a:ext cx="48499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2251080"/>
            <a:ext cx="852804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ff-Trail ATV us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destroys wetlan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nd veget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note: "ATV in sw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" image found on interne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location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44640" y="4775040"/>
            <a:ext cx="3213000" cy="2408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33840" y="1805040"/>
            <a:ext cx="36468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damage existing trai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52480" y="2251080"/>
            <a:ext cx="852804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estroy the trail's su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hills: smooth trail erodes into stream be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low spots turn into mud poo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egrade the character of the trai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wid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multiply into a wea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breed more trai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tempt larger vehicles to en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damage the forest ec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2480" y="2251080"/>
            <a:ext cx="852804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damage to soil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wetla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forest flo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erosion on gra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damage to the character of the forest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erosion consequ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destroyed vegetation on new trai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opening of canopy makes it a different for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chance for alien species to inva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impact other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2251080"/>
            <a:ext cx="852804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ll users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 suffe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Noise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spoils quiet enjoyment of na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Pollution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(air, fuel, oil), increasing with growing u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Garbage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starts to sho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Skier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encounter ruined trails, and the season shortens for th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Canoeist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carry across Portages that have become unpleasant, confusing and hazardou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Snowmobiler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suffer from erosion created by ATV us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What is the Ontario's Vision for Protected Are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2480" y="2251080"/>
            <a:ext cx="852804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238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"...</a:t>
            </a:r>
            <a:r>
              <a:rPr b="1" lang="en-US" sz="3300" spc="-1" strike="noStrike">
                <a:solidFill>
                  <a:srgbClr val="00b0bc"/>
                </a:solidFill>
                <a:latin typeface="News Gothic"/>
              </a:rPr>
              <a:t>develop natural resources in a sustainable way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to meet today's needs and to ensure these resources are available for future generations"</a:t>
            </a:r>
            <a:r>
              <a:rPr b="1" lang="en-US" sz="1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100080">
              <a:lnSpc>
                <a:spcPct val="100000"/>
              </a:lnSpc>
              <a:spcAft>
                <a:spcPts val="275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News Gothic"/>
              </a:rPr>
              <a:t>(OLL Land Use Strategy 1999, P.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52480" y="2251080"/>
            <a:ext cx="852804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he ATV, an admirable piece of technolog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But some key features have drawbacks resulting i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7964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Damage to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7964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Unpleasantness to other us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sequences to Land Use Area Plann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 and Canoe Ro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bc"/>
                </a:solidFill>
                <a:latin typeface="News Gothic"/>
              </a:rPr>
              <a:t>ATVs in Land Use Planning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2480" y="2251080"/>
            <a:ext cx="852804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0" lang="en-US" sz="3000" spc="-1" strike="noStrike">
                <a:solidFill>
                  <a:srgbClr val="00b0bc"/>
                </a:solidFill>
                <a:latin typeface="News Gothic"/>
              </a:rPr>
              <a:t>ATVs shall be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 kept out of protected are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In </a:t>
            </a:r>
            <a:r>
              <a:rPr b="0" lang="en-US" sz="3000" spc="-1" strike="noStrike">
                <a:solidFill>
                  <a:srgbClr val="ffffff"/>
                </a:solidFill>
                <a:latin typeface="News Gothic"/>
              </a:rPr>
              <a:t>General Use Area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, ATVs must stay away from portages and camp si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0800" indent="-196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insist on 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fortified trail surface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o prevent ero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0800" indent="-196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classify the "trail" as a "road"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o reflect the true impact on the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educate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he ATV community on the damaging effects of ATV traff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encourage the ATV user to 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demand gentler machine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from the manufactur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Thanks for listening, and do enjoy the outdoors, every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2480" y="2251080"/>
            <a:ext cx="852804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material collected and put together by Erhard K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comments are welc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6000" indent="-12240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416-293-37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6000" indent="-12240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erhard@interlog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November 24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The ATV, an admirable piece of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2480" y="2251080"/>
            <a:ext cx="85280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can go anywhe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are both work horse and  fun mach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have matured: capable, reliable, safe, and afford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52480" y="2251080"/>
            <a:ext cx="852804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arse tire tre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igh torq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bility to carry stuff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engine creates noise and exhaus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But some ATV features have drawb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on Canoe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2480" y="2251080"/>
            <a:ext cx="85280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amage existing trail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amage the forest ecolog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spoil the experience for other us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2480" y="2251080"/>
            <a:ext cx="85280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ere's the original trail condition </a:t>
            </a: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(photos taken in Kawarthas, between Cox and Triangle Lakes)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29320" y="3173400"/>
            <a:ext cx="2584440" cy="373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7080" y="4103640"/>
            <a:ext cx="29656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74640" y="3137040"/>
            <a:ext cx="6015240" cy="417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52480" y="2251080"/>
            <a:ext cx="85280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Canoe (going straight), Snowmobile (to left) and ATV (to r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480" y="2251080"/>
            <a:ext cx="8528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he surface of the path is destroyed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 (pictured at an early sta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297480" y="2703600"/>
            <a:ext cx="3473640" cy="4589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5960" y="3324240"/>
            <a:ext cx="53737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22440" y="3241800"/>
            <a:ext cx="4665600" cy="379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2251080"/>
            <a:ext cx="85280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ow spots become mini ponds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a real problem when you carry canoe and gear)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