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331450" cy="7775575"/>
  <p:notesSz cx="7775575" cy="10331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F3E-1DB4-45BA-B13F-F11D73E6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E92-3419-44BE-9447-3DBE553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423-C373-48DF-9EF3-577761EB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364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436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1364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73E-A4D0-4EAF-BD31-DC6A8C95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FA0-6746-4EB0-92C4-7504ED0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B13-B2C6-466E-A607-B2AB8E3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37D-B33F-486F-ACCC-A13E0795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9B5-5425-4010-98BE-32ED40A8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4360" y="690120"/>
            <a:ext cx="87822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C23-EEE8-40F8-B0E0-B1D80289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FF7-C3C2-41FD-A0EB-1929B7E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4302-897D-4E95-BD88-3EDBDE91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C6C-7973-47B5-A1EF-F53305B7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7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9080" y="7083360"/>
            <a:ext cx="32716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41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BD2-138A-4CF3-AC1A-13B82FA5364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0"/>
            <a:ext cx="10329840" cy="7774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92160"/>
            <a:ext cx="10331280" cy="182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0800" y="330480"/>
            <a:ext cx="8529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8640" y="3554280"/>
            <a:ext cx="85280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IP Open Hou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Toronto, November 24,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lls start to erode and look like creek be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90880" y="2681280"/>
            <a:ext cx="38354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Road work becomes necessar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in this case the ATVers brought in concrete to improve an eroded hill se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9040" y="3510000"/>
            <a:ext cx="54576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rails widen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(to width of vehicle) </a:t>
            </a:r>
            <a:r>
              <a:rPr b="1" lang="en-US" sz="1700" spc="-1" strike="noStrike">
                <a:solidFill>
                  <a:srgbClr val="ffffff"/>
                </a:solidFill>
                <a:latin typeface="News Gothic"/>
              </a:rPr>
              <a:t>and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drivers create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multiple tra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33480" y="2940120"/>
            <a:ext cx="2957400" cy="4456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33960" y="3067200"/>
            <a:ext cx="5535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rails multipl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and chew into the fores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once a single trail, image created by walking all new trails with G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9120" y="3549600"/>
            <a:ext cx="32418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2480" y="2251080"/>
            <a:ext cx="85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TVs spawn heavy duty 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with heavy duty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garb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3720" y="3695760"/>
            <a:ext cx="6604200" cy="381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08600" y="2657520"/>
            <a:ext cx="4849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2251080"/>
            <a:ext cx="85280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ff-Trail ATV us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estroys wet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nd veget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note: "ATV in sw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" image found on inter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location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44640" y="4775040"/>
            <a:ext cx="3213000" cy="240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3840" y="1805040"/>
            <a:ext cx="36468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existing trai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2480" y="2251080"/>
            <a:ext cx="852804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stroy the trail's su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hills: smooth trail erodes into stream be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ow spots turn into mud poo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grade the character of the trai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wid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ultiply into a wea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breed more trai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tempt larger vehicles to e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the forest ec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2480" y="2251080"/>
            <a:ext cx="852804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soil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wetl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forest flo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on gra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the character of the forest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consequ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destroyed vegetation on new trai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opening of canopy makes it a different fo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chance for alien species to inva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impact other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2251080"/>
            <a:ext cx="852804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ll users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 suff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Nois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poils quiet enjoyment of na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Pollution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(air, fuel, oil), increasing with growing u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Garbag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tarts to sho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ki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encounter ruined trails, and the season shortens for th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Canoeist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carry across Portages that have become unpleasant, confusing and hazardou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nowmobil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suffer from erosion created by ATV u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What is the Ontario's Vision for Protected Are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2480" y="2251080"/>
            <a:ext cx="852804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23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"...</a:t>
            </a:r>
            <a:r>
              <a:rPr b="1" lang="en-US" sz="3300" spc="-1" strike="noStrike">
                <a:solidFill>
                  <a:srgbClr val="00b0bc"/>
                </a:solidFill>
                <a:latin typeface="News Gothic"/>
              </a:rPr>
              <a:t>develop natural resources in a sustainable way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to meet today's needs and to ensure these resources are available for future generations"</a:t>
            </a:r>
            <a:r>
              <a:rPr b="1" lang="en-US" sz="1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100080">
              <a:lnSpc>
                <a:spcPct val="100000"/>
              </a:lnSpc>
              <a:spcAft>
                <a:spcPts val="275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News Gothic"/>
              </a:rPr>
              <a:t>(OLL Land Use Strategy 1999, P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52480" y="2251080"/>
            <a:ext cx="852804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ATV, an admirable piece of techn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But some key features have drawbacks resulting i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amage to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Unpleasantness to other us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sequences to Land Use Area Plan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bc"/>
                </a:solidFill>
                <a:latin typeface="News Gothic"/>
              </a:rPr>
              <a:t>ATVs in Land Use Planning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2480" y="2251080"/>
            <a:ext cx="85280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0" lang="en-US" sz="3000" spc="-1" strike="noStrike">
                <a:solidFill>
                  <a:srgbClr val="00b0bc"/>
                </a:solidFill>
                <a:latin typeface="News Gothic"/>
              </a:rPr>
              <a:t>ATVs shall be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 kept out of protected ar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 </a:t>
            </a:r>
            <a:r>
              <a:rPr b="0" lang="en-US" sz="3000" spc="-1" strike="noStrike">
                <a:solidFill>
                  <a:srgbClr val="ffffff"/>
                </a:solidFill>
                <a:latin typeface="News Gothic"/>
              </a:rPr>
              <a:t>General Use Area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, ATVs must stay away from portages and camp si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sist on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fortified trail surfac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prevent ero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classify the "trail" as a "road"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reflect the true impact on the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educate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he ATV community on the damaging effects of ATV traff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encourage the ATV user to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demand gentler machin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from the manufactur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anks for listening, and do enjoy the outdoors, every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2480" y="2251080"/>
            <a:ext cx="85280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material collected and put together by 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mments are wel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416-293-37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erhard@interlo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e ATV, an admirable piece of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2480" y="2251080"/>
            <a:ext cx="85280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can go anywhe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are both work horse and  fun mach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have matured: capable, reliable, safe, and afford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2480" y="2251080"/>
            <a:ext cx="85280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arse tire tre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gh torq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bility to carry stuff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engine creates noise and exhau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But some ATV features have drawb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on Canoe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2480" y="2251080"/>
            <a:ext cx="85280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existing trail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the forest ec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spoil the experience for other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2480" y="2251080"/>
            <a:ext cx="85280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ere's the original trail condition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(photos taken in Kawarthas, between Cox and Triangle Lakes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29320" y="3173400"/>
            <a:ext cx="2584440" cy="373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7080" y="4103640"/>
            <a:ext cx="29656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74640" y="3137040"/>
            <a:ext cx="6015240" cy="417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52480" y="225108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Canoe (going straight), Snowmobile (to left) and ATV (to r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surface of the path is destroyed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(pictured at an early st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97480" y="2703600"/>
            <a:ext cx="3473640" cy="458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960" y="3324240"/>
            <a:ext cx="5373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22440" y="3241800"/>
            <a:ext cx="4665600" cy="379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ow spots become mini ponds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a real problem when you carry canoe and gear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