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10331450" cy="7775575"/>
  <p:notesSz cx="7775575" cy="103314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BB0C9-878C-448A-B4E5-2472A388A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4360" y="690120"/>
            <a:ext cx="87822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74360" y="2246400"/>
            <a:ext cx="8782200" cy="22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74360" y="4683240"/>
            <a:ext cx="8782200" cy="22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4BBBB-88E4-4A26-8418-5CCA25CAD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4360" y="690120"/>
            <a:ext cx="87822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74360" y="2246400"/>
            <a:ext cx="4285440" cy="22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274360" y="2246400"/>
            <a:ext cx="4285440" cy="22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74360" y="4683240"/>
            <a:ext cx="4285440" cy="22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274360" y="4683240"/>
            <a:ext cx="4285440" cy="22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E1BB6-F07D-47B0-8436-B1B72100C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4360" y="690120"/>
            <a:ext cx="87822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74360" y="2246400"/>
            <a:ext cx="2827800" cy="22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44000" y="2246400"/>
            <a:ext cx="2827800" cy="22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713640" y="2246400"/>
            <a:ext cx="2827800" cy="22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74360" y="4683240"/>
            <a:ext cx="2827800" cy="22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44000" y="4683240"/>
            <a:ext cx="2827800" cy="22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713640" y="4683240"/>
            <a:ext cx="2827800" cy="22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FBB8D-0AA5-4BC2-83A7-BAC48F629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4360" y="690120"/>
            <a:ext cx="87822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74360" y="2246400"/>
            <a:ext cx="8782200" cy="466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3DE17-652D-4328-BA1B-96712546C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4360" y="690120"/>
            <a:ext cx="87822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74360" y="2246400"/>
            <a:ext cx="8782200" cy="46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49FC7-BF0A-412C-8759-CFC0D1B3F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4360" y="690120"/>
            <a:ext cx="87822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74360" y="2246400"/>
            <a:ext cx="4285440" cy="46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274360" y="2246400"/>
            <a:ext cx="4285440" cy="46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203A1-A219-4D8F-8BFF-B1515FD6F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4360" y="690120"/>
            <a:ext cx="87822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6CF8A-2EBD-4A43-8171-58D4F02C6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4360" y="690120"/>
            <a:ext cx="87822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A5F40-4822-4C2A-B464-25FABB6A7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4360" y="690120"/>
            <a:ext cx="87822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74360" y="2246400"/>
            <a:ext cx="4285440" cy="22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4360" y="2246400"/>
            <a:ext cx="4285440" cy="46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74360" y="4683240"/>
            <a:ext cx="4285440" cy="22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E5354-F482-4EDA-B0D5-98B11D635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4360" y="690120"/>
            <a:ext cx="87822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74360" y="2246400"/>
            <a:ext cx="4285440" cy="46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274360" y="2246400"/>
            <a:ext cx="4285440" cy="22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274360" y="4683240"/>
            <a:ext cx="4285440" cy="22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69D3A-8BEF-4373-96DF-7F60B3BB1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4360" y="690120"/>
            <a:ext cx="87822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74360" y="2246400"/>
            <a:ext cx="4285440" cy="22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74360" y="2246400"/>
            <a:ext cx="4285440" cy="22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74360" y="4683240"/>
            <a:ext cx="8782200" cy="22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C84D8-6E41-42E2-8DA3-995DCA4FE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4360" y="690120"/>
            <a:ext cx="87822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74360" y="2246400"/>
            <a:ext cx="8782200" cy="46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74720" y="7083360"/>
            <a:ext cx="215280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29080" y="7083360"/>
            <a:ext cx="327168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404120" y="7083360"/>
            <a:ext cx="215280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A7F3D-4DF0-4C96-9B7B-55BD4BD4119B}" type="slidenum"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440"/>
            <a:ext cx="10329840" cy="77742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1892160"/>
            <a:ext cx="10331280" cy="1828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0000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20800" y="330480"/>
            <a:ext cx="8529480" cy="13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90000"/>
              </a:lnSpc>
              <a:spcAft>
                <a:spcPts val="8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News Gothic"/>
              </a:rPr>
              <a:t>   </a:t>
            </a:r>
            <a:r>
              <a:rPr b="1" lang="en-US" sz="4400" spc="-1" strike="noStrike">
                <a:solidFill>
                  <a:srgbClr val="ffff00"/>
                </a:solidFill>
                <a:latin typeface="News Gothic"/>
              </a:rPr>
              <a:t>ATVs  and Canoe Rou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Aft>
                <a:spcPts val="8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28640" y="3554280"/>
            <a:ext cx="8528040" cy="10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6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News Gothic"/>
              </a:rPr>
              <a:t>             </a:t>
            </a:r>
            <a:r>
              <a:rPr b="1" lang="en-US" sz="3300" spc="-1" strike="noStrike">
                <a:solidFill>
                  <a:srgbClr val="ffffff"/>
                </a:solidFill>
                <a:latin typeface="News Gothic"/>
              </a:rPr>
              <a:t>TIP Open House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1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News Gothic"/>
              </a:rPr>
              <a:t>             </a:t>
            </a:r>
            <a:r>
              <a:rPr b="1" lang="en-US" sz="2200" spc="-1" strike="noStrike">
                <a:solidFill>
                  <a:srgbClr val="ffffff"/>
                </a:solidFill>
                <a:latin typeface="News Gothic"/>
              </a:rPr>
              <a:t>Toronto, November 24, 200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820800" y="1038240"/>
            <a:ext cx="8529480" cy="6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90000"/>
              </a:lnSpc>
              <a:spcAft>
                <a:spcPts val="8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News Gothic"/>
              </a:rPr>
              <a:t>Example - ATVs on Port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852480" y="2251080"/>
            <a:ext cx="8528040" cy="10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30320" indent="-130320">
              <a:lnSpc>
                <a:spcPct val="100000"/>
              </a:lnSpc>
              <a:spcAft>
                <a:spcPts val="612"/>
              </a:spcAft>
              <a:buClr>
                <a:srgbClr val="ffff00"/>
              </a:buClr>
              <a:buSzPct val="73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News Gothic"/>
              </a:rPr>
              <a:t>Hills start to erode and look like creek beds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890880" y="2681280"/>
            <a:ext cx="3835440" cy="482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820800" y="1038240"/>
            <a:ext cx="8529480" cy="6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90000"/>
              </a:lnSpc>
              <a:spcAft>
                <a:spcPts val="8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News Gothic"/>
              </a:rPr>
              <a:t>Example - ATVs on Port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852480" y="2251080"/>
            <a:ext cx="8528040" cy="11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30320" indent="-130320">
              <a:lnSpc>
                <a:spcPct val="100000"/>
              </a:lnSpc>
              <a:spcAft>
                <a:spcPts val="414"/>
              </a:spcAft>
              <a:buClr>
                <a:srgbClr val="ffff00"/>
              </a:buClr>
              <a:buSzPct val="73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News Gothic"/>
              </a:rPr>
              <a:t>Road work becomes necessary </a:t>
            </a:r>
            <a:r>
              <a:rPr b="1" lang="en-US" sz="2200" spc="-1" strike="noStrike">
                <a:solidFill>
                  <a:srgbClr val="ffffff"/>
                </a:solidFill>
                <a:latin typeface="News Gothic"/>
              </a:rPr>
              <a:t>(in this case the ATVers brought in concrete to improve an eroded hill section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3029040" y="3510000"/>
            <a:ext cx="5457600" cy="39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820800" y="1038240"/>
            <a:ext cx="8529480" cy="6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90000"/>
              </a:lnSpc>
              <a:spcAft>
                <a:spcPts val="8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News Gothic"/>
              </a:rPr>
              <a:t>Example - ATVs on Port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852480" y="2251080"/>
            <a:ext cx="85280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12680" indent="-112680">
              <a:lnSpc>
                <a:spcPct val="100000"/>
              </a:lnSpc>
              <a:spcAft>
                <a:spcPts val="488"/>
              </a:spcAft>
              <a:buClr>
                <a:srgbClr val="ffff00"/>
              </a:buClr>
              <a:buSzPct val="73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News Gothic"/>
              </a:rPr>
              <a:t>Trails widen </a:t>
            </a:r>
            <a:r>
              <a:rPr b="1" lang="en-US" sz="1900" spc="-1" strike="noStrike">
                <a:solidFill>
                  <a:srgbClr val="ffffff"/>
                </a:solidFill>
                <a:latin typeface="News Gothic"/>
              </a:rPr>
              <a:t>(to width of vehicle) </a:t>
            </a:r>
            <a:r>
              <a:rPr b="1" lang="en-US" sz="1700" spc="-1" strike="noStrike">
                <a:solidFill>
                  <a:srgbClr val="ffffff"/>
                </a:solidFill>
                <a:latin typeface="News Gothic"/>
              </a:rPr>
              <a:t>and </a:t>
            </a:r>
            <a:r>
              <a:rPr b="1" lang="en-US" sz="1900" spc="-1" strike="noStrike">
                <a:solidFill>
                  <a:srgbClr val="ffffff"/>
                </a:solidFill>
                <a:latin typeface="News Gothic"/>
              </a:rPr>
              <a:t>drivers create</a:t>
            </a:r>
            <a:r>
              <a:rPr b="1" lang="en-US" sz="2200" spc="-1" strike="noStrike">
                <a:solidFill>
                  <a:srgbClr val="ffffff"/>
                </a:solidFill>
                <a:latin typeface="News Gothic"/>
              </a:rPr>
              <a:t> </a:t>
            </a:r>
            <a:r>
              <a:rPr b="1" lang="en-US" sz="2600" spc="-1" strike="noStrike">
                <a:solidFill>
                  <a:srgbClr val="ffffff"/>
                </a:solidFill>
                <a:latin typeface="News Gothic"/>
              </a:rPr>
              <a:t>multiple track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933480" y="2940120"/>
            <a:ext cx="2957400" cy="44560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4233960" y="3067200"/>
            <a:ext cx="5535360" cy="410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820800" y="1038240"/>
            <a:ext cx="8529480" cy="6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90000"/>
              </a:lnSpc>
              <a:spcAft>
                <a:spcPts val="8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News Gothic"/>
              </a:rPr>
              <a:t>Example - ATVs on Port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852480" y="2251080"/>
            <a:ext cx="8528040" cy="11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30320" indent="-130320">
              <a:lnSpc>
                <a:spcPct val="100000"/>
              </a:lnSpc>
              <a:spcAft>
                <a:spcPts val="414"/>
              </a:spcAft>
              <a:buClr>
                <a:srgbClr val="ffff00"/>
              </a:buClr>
              <a:buSzPct val="73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News Gothic"/>
              </a:rPr>
              <a:t>Trails multiply </a:t>
            </a:r>
            <a:r>
              <a:rPr b="1" lang="en-US" sz="2200" spc="-1" strike="noStrike">
                <a:solidFill>
                  <a:srgbClr val="ffffff"/>
                </a:solidFill>
                <a:latin typeface="News Gothic"/>
              </a:rPr>
              <a:t>and chew into the forest</a:t>
            </a:r>
            <a:r>
              <a:rPr b="1" lang="en-US" sz="3300" spc="-1" strike="noStrike">
                <a:solidFill>
                  <a:srgbClr val="ffffff"/>
                </a:solidFill>
                <a:latin typeface="News Gothic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News Gothic"/>
              </a:rPr>
              <a:t>(once a single trail, image created by walking all new trails with GP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2859120" y="3549600"/>
            <a:ext cx="3241800" cy="343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820800" y="1038240"/>
            <a:ext cx="8529480" cy="6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90000"/>
              </a:lnSpc>
              <a:spcAft>
                <a:spcPts val="8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News Gothic"/>
              </a:rPr>
              <a:t>Example - ATVs on Port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852480" y="2251080"/>
            <a:ext cx="852804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12680" indent="-112680">
              <a:lnSpc>
                <a:spcPct val="100000"/>
              </a:lnSpc>
              <a:spcAft>
                <a:spcPts val="539"/>
              </a:spcAft>
              <a:buClr>
                <a:srgbClr val="ffff00"/>
              </a:buClr>
              <a:buSzPct val="73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News Gothic"/>
              </a:rPr>
              <a:t>ATVs spawn heavy duty use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112680" indent="-112680">
              <a:lnSpc>
                <a:spcPct val="100000"/>
              </a:lnSpc>
              <a:spcAft>
                <a:spcPts val="53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News Gothic"/>
              </a:rPr>
              <a:t>with heavy duty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112680" indent="-112680">
              <a:lnSpc>
                <a:spcPct val="100000"/>
              </a:lnSpc>
              <a:spcAft>
                <a:spcPts val="53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News Gothic"/>
              </a:rPr>
              <a:t>garbage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423720" y="3695760"/>
            <a:ext cx="6604200" cy="381636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4908600" y="2657520"/>
            <a:ext cx="4849920" cy="37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820800" y="1038240"/>
            <a:ext cx="8529480" cy="6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90000"/>
              </a:lnSpc>
              <a:spcAft>
                <a:spcPts val="8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News Gothic"/>
              </a:rPr>
              <a:t>Example - ATVs on Port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852480" y="2251080"/>
            <a:ext cx="8528040" cy="258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30320" indent="-130320">
              <a:lnSpc>
                <a:spcPct val="100000"/>
              </a:lnSpc>
              <a:spcAft>
                <a:spcPts val="612"/>
              </a:spcAft>
              <a:buClr>
                <a:srgbClr val="ffff00"/>
              </a:buClr>
              <a:buSzPct val="73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News Gothic"/>
              </a:rPr>
              <a:t>Off-Trail ATV use 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561960" indent="-208080">
              <a:lnSpc>
                <a:spcPct val="100000"/>
              </a:lnSpc>
              <a:spcAft>
                <a:spcPts val="575"/>
              </a:spcAft>
              <a:buClr>
                <a:srgbClr val="ffff00"/>
              </a:buClr>
              <a:buSzPct val="125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News Gothic"/>
              </a:rPr>
              <a:t>destroys wetland 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561960" indent="-208080">
              <a:lnSpc>
                <a:spcPct val="100000"/>
              </a:lnSpc>
              <a:spcAft>
                <a:spcPts val="575"/>
              </a:spcAft>
              <a:buClr>
                <a:srgbClr val="ffff00"/>
              </a:buClr>
              <a:buSzPct val="125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News Gothic"/>
              </a:rPr>
              <a:t>and vegetation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4560" indent="-120960">
              <a:lnSpc>
                <a:spcPct val="100000"/>
              </a:lnSpc>
              <a:spcAft>
                <a:spcPts val="337"/>
              </a:spcAft>
              <a:buClr>
                <a:srgbClr val="ffff00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News Gothic"/>
              </a:rPr>
              <a:t>note: "ATV in swam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4560" indent="-120960">
              <a:lnSpc>
                <a:spcPct val="100000"/>
              </a:lnSpc>
              <a:spcAft>
                <a:spcPts val="337"/>
              </a:spcAft>
              <a:buClr>
                <a:srgbClr val="ffff00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News Gothic"/>
              </a:rPr>
              <a:t>" image found on internet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4560" indent="-120960">
              <a:lnSpc>
                <a:spcPct val="100000"/>
              </a:lnSpc>
              <a:spcAft>
                <a:spcPts val="337"/>
              </a:spcAft>
              <a:buClr>
                <a:srgbClr val="ffff00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News Gothic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News Gothic"/>
              </a:rPr>
              <a:t>location unknow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944640" y="4775040"/>
            <a:ext cx="3213000" cy="24084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5433840" y="1805040"/>
            <a:ext cx="3646800" cy="53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820800" y="435240"/>
            <a:ext cx="8529480" cy="12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90000"/>
              </a:lnSpc>
              <a:spcAft>
                <a:spcPts val="8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News Gothic"/>
              </a:rPr>
              <a:t>Summary: ATVs damage existing trail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852480" y="2251080"/>
            <a:ext cx="8528040" cy="483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30320" indent="-130320">
              <a:lnSpc>
                <a:spcPct val="100000"/>
              </a:lnSpc>
              <a:spcAft>
                <a:spcPts val="612"/>
              </a:spcAft>
              <a:buClr>
                <a:srgbClr val="ffff00"/>
              </a:buClr>
              <a:buSzPct val="73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News Gothic"/>
              </a:rPr>
              <a:t>ATVs destroy the trail's surface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561960" indent="-208080">
              <a:lnSpc>
                <a:spcPct val="100000"/>
              </a:lnSpc>
              <a:spcAft>
                <a:spcPts val="575"/>
              </a:spcAft>
              <a:buClr>
                <a:srgbClr val="ffff00"/>
              </a:buClr>
              <a:buSzPct val="125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News Gothic"/>
              </a:rPr>
              <a:t>hills: smooth trail erodes into stream beds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561960" indent="-208080">
              <a:lnSpc>
                <a:spcPct val="100000"/>
              </a:lnSpc>
              <a:spcAft>
                <a:spcPts val="575"/>
              </a:spcAft>
              <a:buClr>
                <a:srgbClr val="ffff00"/>
              </a:buClr>
              <a:buSzPct val="125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News Gothic"/>
              </a:rPr>
              <a:t>low spots turn into mud pools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130320" indent="-130320">
              <a:lnSpc>
                <a:spcPct val="100000"/>
              </a:lnSpc>
              <a:spcAft>
                <a:spcPts val="612"/>
              </a:spcAft>
              <a:buClr>
                <a:srgbClr val="ffff00"/>
              </a:buClr>
              <a:buSzPct val="73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News Gothic"/>
              </a:rPr>
              <a:t>ATVs degrade the character of the trai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561960" indent="-208080">
              <a:lnSpc>
                <a:spcPct val="100000"/>
              </a:lnSpc>
              <a:spcAft>
                <a:spcPts val="575"/>
              </a:spcAft>
              <a:buClr>
                <a:srgbClr val="ffff00"/>
              </a:buClr>
              <a:buSzPct val="125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News Gothic"/>
              </a:rPr>
              <a:t>widen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561960" indent="-208080">
              <a:lnSpc>
                <a:spcPct val="100000"/>
              </a:lnSpc>
              <a:spcAft>
                <a:spcPts val="575"/>
              </a:spcAft>
              <a:buClr>
                <a:srgbClr val="ffff00"/>
              </a:buClr>
              <a:buSzPct val="125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News Gothic"/>
              </a:rPr>
              <a:t>multiply into a weave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561960" indent="-208080">
              <a:lnSpc>
                <a:spcPct val="100000"/>
              </a:lnSpc>
              <a:spcAft>
                <a:spcPts val="575"/>
              </a:spcAft>
              <a:buClr>
                <a:srgbClr val="ffff00"/>
              </a:buClr>
              <a:buSzPct val="125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News Gothic"/>
              </a:rPr>
              <a:t>breed more trails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561960" indent="-208080">
              <a:lnSpc>
                <a:spcPct val="100000"/>
              </a:lnSpc>
              <a:spcAft>
                <a:spcPts val="575"/>
              </a:spcAft>
              <a:buClr>
                <a:srgbClr val="ffff00"/>
              </a:buClr>
              <a:buSzPct val="125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News Gothic"/>
              </a:rPr>
              <a:t>tempt larger vehicles to enter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820800" y="435240"/>
            <a:ext cx="8529480" cy="12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90000"/>
              </a:lnSpc>
              <a:spcAft>
                <a:spcPts val="8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News Gothic"/>
              </a:rPr>
              <a:t>Summary: ATVs damage the forest ecolog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852480" y="2251080"/>
            <a:ext cx="8528040" cy="41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12680" indent="-112680">
              <a:lnSpc>
                <a:spcPct val="100000"/>
              </a:lnSpc>
              <a:spcAft>
                <a:spcPts val="539"/>
              </a:spcAft>
              <a:buClr>
                <a:srgbClr val="ffff00"/>
              </a:buClr>
              <a:buSzPct val="73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News Gothic"/>
              </a:rPr>
              <a:t>damage to soil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530280" indent="-176400">
              <a:lnSpc>
                <a:spcPct val="100000"/>
              </a:lnSpc>
              <a:spcAft>
                <a:spcPts val="488"/>
              </a:spcAft>
              <a:buClr>
                <a:srgbClr val="ffff00"/>
              </a:buClr>
              <a:buSzPct val="125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News Gothic"/>
              </a:rPr>
              <a:t>wetland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530280" indent="-176400">
              <a:lnSpc>
                <a:spcPct val="100000"/>
              </a:lnSpc>
              <a:spcAft>
                <a:spcPts val="488"/>
              </a:spcAft>
              <a:buClr>
                <a:srgbClr val="ffff00"/>
              </a:buClr>
              <a:buSzPct val="125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News Gothic"/>
              </a:rPr>
              <a:t>forest floo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530280" indent="-176400">
              <a:lnSpc>
                <a:spcPct val="100000"/>
              </a:lnSpc>
              <a:spcAft>
                <a:spcPts val="488"/>
              </a:spcAft>
              <a:buClr>
                <a:srgbClr val="ffff00"/>
              </a:buClr>
              <a:buSzPct val="125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News Gothic"/>
              </a:rPr>
              <a:t>erosion on grad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112680" indent="-112680">
              <a:lnSpc>
                <a:spcPct val="100000"/>
              </a:lnSpc>
              <a:spcAft>
                <a:spcPts val="539"/>
              </a:spcAft>
              <a:buClr>
                <a:srgbClr val="ffff00"/>
              </a:buClr>
              <a:buSzPct val="73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News Gothic"/>
              </a:rPr>
              <a:t>damage to the character of the forest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530280" indent="-176400">
              <a:lnSpc>
                <a:spcPct val="100000"/>
              </a:lnSpc>
              <a:spcAft>
                <a:spcPts val="488"/>
              </a:spcAft>
              <a:buClr>
                <a:srgbClr val="ffff00"/>
              </a:buClr>
              <a:buSzPct val="125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News Gothic"/>
              </a:rPr>
              <a:t>erosion consequenc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530280" indent="-176400">
              <a:lnSpc>
                <a:spcPct val="100000"/>
              </a:lnSpc>
              <a:spcAft>
                <a:spcPts val="488"/>
              </a:spcAft>
              <a:buClr>
                <a:srgbClr val="ffff00"/>
              </a:buClr>
              <a:buSzPct val="125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News Gothic"/>
              </a:rPr>
              <a:t>destroyed vegetation on new trail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530280" indent="-176400">
              <a:lnSpc>
                <a:spcPct val="100000"/>
              </a:lnSpc>
              <a:spcAft>
                <a:spcPts val="488"/>
              </a:spcAft>
              <a:buClr>
                <a:srgbClr val="ffff00"/>
              </a:buClr>
              <a:buSzPct val="125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News Gothic"/>
              </a:rPr>
              <a:t>opening of canopy makes it a different fores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530280" indent="-176400">
              <a:lnSpc>
                <a:spcPct val="100000"/>
              </a:lnSpc>
              <a:spcAft>
                <a:spcPts val="488"/>
              </a:spcAft>
              <a:buClr>
                <a:srgbClr val="ffff00"/>
              </a:buClr>
              <a:buSzPct val="125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News Gothic"/>
              </a:rPr>
              <a:t>chance for alien species to invad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820800" y="435240"/>
            <a:ext cx="8529480" cy="12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90000"/>
              </a:lnSpc>
              <a:spcAft>
                <a:spcPts val="8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News Gothic"/>
              </a:rPr>
              <a:t>Summary: ATVs impact other us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852480" y="2251080"/>
            <a:ext cx="8528040" cy="45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12680" indent="-112680">
              <a:lnSpc>
                <a:spcPct val="100000"/>
              </a:lnSpc>
              <a:spcAft>
                <a:spcPts val="462"/>
              </a:spcAft>
              <a:buClr>
                <a:srgbClr val="ffff00"/>
              </a:buClr>
              <a:buSzPct val="73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News Gothic"/>
              </a:rPr>
              <a:t>All users</a:t>
            </a:r>
            <a:r>
              <a:rPr b="1" lang="en-US" sz="2500" spc="-1" strike="noStrike">
                <a:solidFill>
                  <a:srgbClr val="ffffff"/>
                </a:solidFill>
                <a:latin typeface="News Gothic"/>
              </a:rPr>
              <a:t> suffer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528480" indent="-174600">
              <a:lnSpc>
                <a:spcPct val="100000"/>
              </a:lnSpc>
              <a:spcAft>
                <a:spcPts val="425"/>
              </a:spcAft>
              <a:buClr>
                <a:srgbClr val="ffff00"/>
              </a:buClr>
              <a:buSzPct val="125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a0004c"/>
                </a:solidFill>
                <a:latin typeface="News Gothic"/>
              </a:rPr>
              <a:t>Noise</a:t>
            </a:r>
            <a:r>
              <a:rPr b="1" lang="en-US" sz="2300" spc="-1" strike="noStrike">
                <a:solidFill>
                  <a:srgbClr val="ffffff"/>
                </a:solidFill>
                <a:latin typeface="News Gothic"/>
              </a:rPr>
              <a:t> spoils quiet enjoyment of nature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528480" indent="-174600">
              <a:lnSpc>
                <a:spcPct val="100000"/>
              </a:lnSpc>
              <a:spcAft>
                <a:spcPts val="425"/>
              </a:spcAft>
              <a:buClr>
                <a:srgbClr val="ffff00"/>
              </a:buClr>
              <a:buSzPct val="125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a0004c"/>
                </a:solidFill>
                <a:latin typeface="News Gothic"/>
              </a:rPr>
              <a:t>Pollution</a:t>
            </a:r>
            <a:r>
              <a:rPr b="1" lang="en-US" sz="2300" spc="-1" strike="noStrike">
                <a:solidFill>
                  <a:srgbClr val="ffffff"/>
                </a:solidFill>
                <a:latin typeface="News Gothic"/>
              </a:rPr>
              <a:t> (air, fuel, oil), increasing with growing use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528480" indent="-174600">
              <a:lnSpc>
                <a:spcPct val="100000"/>
              </a:lnSpc>
              <a:spcAft>
                <a:spcPts val="425"/>
              </a:spcAft>
              <a:buClr>
                <a:srgbClr val="ffff00"/>
              </a:buClr>
              <a:buSzPct val="125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a0004c"/>
                </a:solidFill>
                <a:latin typeface="News Gothic"/>
              </a:rPr>
              <a:t>Garbage</a:t>
            </a:r>
            <a:r>
              <a:rPr b="1" lang="en-US" sz="2300" spc="-1" strike="noStrike">
                <a:solidFill>
                  <a:srgbClr val="ffffff"/>
                </a:solidFill>
                <a:latin typeface="News Gothic"/>
              </a:rPr>
              <a:t> starts to show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12680" indent="-112680">
              <a:lnSpc>
                <a:spcPct val="100000"/>
              </a:lnSpc>
              <a:spcAft>
                <a:spcPts val="462"/>
              </a:spcAft>
              <a:buClr>
                <a:srgbClr val="ffff00"/>
              </a:buClr>
              <a:buSzPct val="73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a0004c"/>
                </a:solidFill>
                <a:latin typeface="News Gothic"/>
              </a:rPr>
              <a:t>Skiers</a:t>
            </a:r>
            <a:r>
              <a:rPr b="1" lang="en-US" sz="2900" spc="-1" strike="noStrike">
                <a:solidFill>
                  <a:srgbClr val="ffffff"/>
                </a:solidFill>
                <a:latin typeface="News Gothic"/>
              </a:rPr>
              <a:t> </a:t>
            </a:r>
            <a:r>
              <a:rPr b="1" lang="en-US" sz="2500" spc="-1" strike="noStrike">
                <a:solidFill>
                  <a:srgbClr val="ffffff"/>
                </a:solidFill>
                <a:latin typeface="News Gothic"/>
              </a:rPr>
              <a:t>encounter ruined trails, and the season shortens for them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112680" indent="-112680">
              <a:lnSpc>
                <a:spcPct val="100000"/>
              </a:lnSpc>
              <a:spcAft>
                <a:spcPts val="539"/>
              </a:spcAft>
              <a:buClr>
                <a:srgbClr val="ffff00"/>
              </a:buClr>
              <a:buSzPct val="73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a0004c"/>
                </a:solidFill>
                <a:latin typeface="News Gothic"/>
              </a:rPr>
              <a:t>Canoeists</a:t>
            </a:r>
            <a:r>
              <a:rPr b="1" lang="en-US" sz="2900" spc="-1" strike="noStrike">
                <a:solidFill>
                  <a:srgbClr val="ffffff"/>
                </a:solidFill>
                <a:latin typeface="News Gothic"/>
              </a:rPr>
              <a:t> </a:t>
            </a:r>
            <a:r>
              <a:rPr b="1" lang="en-US" sz="2500" spc="-1" strike="noStrike">
                <a:solidFill>
                  <a:srgbClr val="ffffff"/>
                </a:solidFill>
                <a:latin typeface="News Gothic"/>
              </a:rPr>
              <a:t>carry across Portages that have become unpleasant, confusing and hazardous</a:t>
            </a:r>
            <a:r>
              <a:rPr b="1" lang="en-US" sz="2900" spc="-1" strike="noStrike">
                <a:solidFill>
                  <a:srgbClr val="ffffff"/>
                </a:solidFill>
                <a:latin typeface="News Gothic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112680" indent="-112680">
              <a:lnSpc>
                <a:spcPct val="100000"/>
              </a:lnSpc>
              <a:spcAft>
                <a:spcPts val="462"/>
              </a:spcAft>
              <a:buClr>
                <a:srgbClr val="ffff00"/>
              </a:buClr>
              <a:buSzPct val="73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a0004c"/>
                </a:solidFill>
                <a:latin typeface="News Gothic"/>
              </a:rPr>
              <a:t>Snowmobilers</a:t>
            </a:r>
            <a:r>
              <a:rPr b="1" lang="en-US" sz="2900" spc="-1" strike="noStrike">
                <a:solidFill>
                  <a:srgbClr val="ffffff"/>
                </a:solidFill>
                <a:latin typeface="News Gothic"/>
              </a:rPr>
              <a:t> </a:t>
            </a:r>
            <a:r>
              <a:rPr b="1" lang="en-US" sz="2500" spc="-1" strike="noStrike">
                <a:solidFill>
                  <a:srgbClr val="ffffff"/>
                </a:solidFill>
                <a:latin typeface="News Gothic"/>
              </a:rPr>
              <a:t>suffer from erosion created by ATV use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820800" y="435240"/>
            <a:ext cx="8529480" cy="12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90000"/>
              </a:lnSpc>
              <a:spcAft>
                <a:spcPts val="8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News Gothic"/>
              </a:rPr>
              <a:t>What is the Ontario's Vision for Protected Area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852480" y="2251080"/>
            <a:ext cx="8528040" cy="22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30320" indent="-130320">
              <a:lnSpc>
                <a:spcPct val="100000"/>
              </a:lnSpc>
              <a:spcAft>
                <a:spcPts val="238"/>
              </a:spcAft>
              <a:buClr>
                <a:srgbClr val="ffff00"/>
              </a:buClr>
              <a:buSzPct val="73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News Gothic"/>
              </a:rPr>
              <a:t>"...</a:t>
            </a:r>
            <a:r>
              <a:rPr b="1" lang="en-US" sz="3300" spc="-1" strike="noStrike">
                <a:solidFill>
                  <a:srgbClr val="00b0bc"/>
                </a:solidFill>
                <a:latin typeface="News Gothic"/>
              </a:rPr>
              <a:t>develop natural resources in a sustainable way</a:t>
            </a:r>
            <a:r>
              <a:rPr b="1" lang="en-US" sz="3300" spc="-1" strike="noStrike">
                <a:solidFill>
                  <a:srgbClr val="ffffff"/>
                </a:solidFill>
                <a:latin typeface="News Gothic"/>
              </a:rPr>
              <a:t> to meet today's needs and to ensure these resources are available for future generations"</a:t>
            </a:r>
            <a:r>
              <a:rPr b="1" lang="en-US" sz="1300" spc="-1" strike="noStrike">
                <a:solidFill>
                  <a:srgbClr val="ffffff"/>
                </a:solidFill>
                <a:latin typeface="News Gothic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3680" indent="-100080">
              <a:lnSpc>
                <a:spcPct val="100000"/>
              </a:lnSpc>
              <a:spcAft>
                <a:spcPts val="275"/>
              </a:spcAft>
              <a:buClr>
                <a:srgbClr val="ffff00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News Gothic"/>
              </a:rPr>
              <a:t>(OLL Land Use Strategy 1999, P.2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852480" y="2251080"/>
            <a:ext cx="8528040" cy="41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30320" indent="-130320">
              <a:lnSpc>
                <a:spcPct val="100000"/>
              </a:lnSpc>
              <a:spcAft>
                <a:spcPts val="612"/>
              </a:spcAft>
              <a:buClr>
                <a:srgbClr val="ffff00"/>
              </a:buClr>
              <a:buSzPct val="73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News Gothic"/>
              </a:rPr>
              <a:t>The ATV, an admirable piece of technology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130320" indent="-130320">
              <a:lnSpc>
                <a:spcPct val="100000"/>
              </a:lnSpc>
              <a:spcAft>
                <a:spcPts val="612"/>
              </a:spcAft>
              <a:buClr>
                <a:srgbClr val="ffff00"/>
              </a:buClr>
              <a:buSzPct val="73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News Gothic"/>
              </a:rPr>
              <a:t>But some key features have drawbacks resulting in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533520" indent="-179640">
              <a:lnSpc>
                <a:spcPct val="100000"/>
              </a:lnSpc>
              <a:spcAft>
                <a:spcPts val="499"/>
              </a:spcAft>
              <a:buClr>
                <a:srgbClr val="ffff00"/>
              </a:buClr>
              <a:buSzPct val="125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News Gothic"/>
              </a:rPr>
              <a:t>Damage to Natu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533520" indent="-179640">
              <a:lnSpc>
                <a:spcPct val="100000"/>
              </a:lnSpc>
              <a:spcAft>
                <a:spcPts val="499"/>
              </a:spcAft>
              <a:buClr>
                <a:srgbClr val="ffff00"/>
              </a:buClr>
              <a:buSzPct val="125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News Gothic"/>
              </a:rPr>
              <a:t>Unpleasantness to other user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130320" indent="-130320">
              <a:lnSpc>
                <a:spcPct val="100000"/>
              </a:lnSpc>
              <a:spcAft>
                <a:spcPts val="612"/>
              </a:spcAft>
              <a:buClr>
                <a:srgbClr val="ffff00"/>
              </a:buClr>
              <a:buSzPct val="73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News Gothic"/>
              </a:rPr>
              <a:t>Consequences to Land Use Area Planning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20800" y="1038240"/>
            <a:ext cx="8529480" cy="6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90000"/>
              </a:lnSpc>
              <a:spcAft>
                <a:spcPts val="8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News Gothic"/>
              </a:rPr>
              <a:t>ATVs  and Canoe Rou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820800" y="1038240"/>
            <a:ext cx="8529480" cy="6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90000"/>
              </a:lnSpc>
              <a:spcAft>
                <a:spcPts val="8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0bc"/>
                </a:solidFill>
                <a:latin typeface="News Gothic"/>
              </a:rPr>
              <a:t>ATVs in Land Use Planning -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852480" y="2251080"/>
            <a:ext cx="8528040" cy="538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15920" indent="-115920">
              <a:lnSpc>
                <a:spcPct val="100000"/>
              </a:lnSpc>
              <a:spcAft>
                <a:spcPts val="561"/>
              </a:spcAft>
              <a:buClr>
                <a:srgbClr val="ffff00"/>
              </a:buClr>
              <a:buSzPct val="73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News Gothic"/>
              </a:rPr>
              <a:t> </a:t>
            </a:r>
            <a:r>
              <a:rPr b="0" lang="en-US" sz="3000" spc="-1" strike="noStrike">
                <a:solidFill>
                  <a:srgbClr val="00b0bc"/>
                </a:solidFill>
                <a:latin typeface="News Gothic"/>
              </a:rPr>
              <a:t>ATVs shall be</a:t>
            </a:r>
            <a:r>
              <a:rPr b="1" lang="en-US" sz="3000" spc="-1" strike="noStrike">
                <a:solidFill>
                  <a:srgbClr val="00b0bc"/>
                </a:solidFill>
                <a:latin typeface="News Gothic"/>
              </a:rPr>
              <a:t> kept out of protected areas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spcAft>
                <a:spcPts val="561"/>
              </a:spcAft>
              <a:buClr>
                <a:srgbClr val="ffff00"/>
              </a:buClr>
              <a:buSzPct val="73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News Gothic"/>
              </a:rPr>
              <a:t> </a:t>
            </a:r>
            <a:r>
              <a:rPr b="1" lang="en-US" sz="3000" spc="-1" strike="noStrike">
                <a:solidFill>
                  <a:srgbClr val="ffffff"/>
                </a:solidFill>
                <a:latin typeface="News Gothic"/>
              </a:rPr>
              <a:t>In </a:t>
            </a:r>
            <a:r>
              <a:rPr b="0" lang="en-US" sz="3000" spc="-1" strike="noStrike">
                <a:solidFill>
                  <a:srgbClr val="ffffff"/>
                </a:solidFill>
                <a:latin typeface="News Gothic"/>
              </a:rPr>
              <a:t>General Use Areas</a:t>
            </a:r>
            <a:r>
              <a:rPr b="1" lang="en-US" sz="3000" spc="-1" strike="noStrike">
                <a:solidFill>
                  <a:srgbClr val="ffffff"/>
                </a:solidFill>
                <a:latin typeface="News Gothic"/>
              </a:rPr>
              <a:t>, ATVs must stay away from portages and camp sit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550800" indent="-196920">
              <a:lnSpc>
                <a:spcPct val="100000"/>
              </a:lnSpc>
              <a:spcAft>
                <a:spcPts val="561"/>
              </a:spcAft>
              <a:buClr>
                <a:srgbClr val="ffff00"/>
              </a:buClr>
              <a:buSzPct val="125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News Gothic"/>
              </a:rPr>
              <a:t>insist on </a:t>
            </a:r>
            <a:r>
              <a:rPr b="1" lang="en-US" sz="3000" spc="-1" strike="noStrike">
                <a:solidFill>
                  <a:srgbClr val="00b0bc"/>
                </a:solidFill>
                <a:latin typeface="News Gothic"/>
              </a:rPr>
              <a:t>fortified trail surfaces</a:t>
            </a:r>
            <a:r>
              <a:rPr b="1" lang="en-US" sz="3000" spc="-1" strike="noStrike">
                <a:solidFill>
                  <a:srgbClr val="ffffff"/>
                </a:solidFill>
                <a:latin typeface="News Gothic"/>
              </a:rPr>
              <a:t> to prevent eros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550800" indent="-196920">
              <a:lnSpc>
                <a:spcPct val="100000"/>
              </a:lnSpc>
              <a:spcAft>
                <a:spcPts val="561"/>
              </a:spcAft>
              <a:buClr>
                <a:srgbClr val="ffff00"/>
              </a:buClr>
              <a:buSzPct val="125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b0bc"/>
                </a:solidFill>
                <a:latin typeface="News Gothic"/>
              </a:rPr>
              <a:t>classify the "trail" as a "road"</a:t>
            </a:r>
            <a:r>
              <a:rPr b="1" lang="en-US" sz="3000" spc="-1" strike="noStrike">
                <a:solidFill>
                  <a:srgbClr val="ffffff"/>
                </a:solidFill>
                <a:latin typeface="News Gothic"/>
              </a:rPr>
              <a:t> to reflect the true impact on the environ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spcAft>
                <a:spcPts val="561"/>
              </a:spcAft>
              <a:buClr>
                <a:srgbClr val="ffff00"/>
              </a:buClr>
              <a:buSzPct val="73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b0bc"/>
                </a:solidFill>
                <a:latin typeface="News Gothic"/>
              </a:rPr>
              <a:t>educate</a:t>
            </a:r>
            <a:r>
              <a:rPr b="1" lang="en-US" sz="3000" spc="-1" strike="noStrike">
                <a:solidFill>
                  <a:srgbClr val="ffffff"/>
                </a:solidFill>
                <a:latin typeface="News Gothic"/>
              </a:rPr>
              <a:t> the ATV community on the damaging effects of ATV traffic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spcAft>
                <a:spcPts val="561"/>
              </a:spcAft>
              <a:buClr>
                <a:srgbClr val="ffff00"/>
              </a:buClr>
              <a:buSzPct val="73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News Gothic"/>
              </a:rPr>
              <a:t>encourage the ATV user to </a:t>
            </a:r>
            <a:r>
              <a:rPr b="1" lang="en-US" sz="3000" spc="-1" strike="noStrike">
                <a:solidFill>
                  <a:srgbClr val="00b0bc"/>
                </a:solidFill>
                <a:latin typeface="News Gothic"/>
              </a:rPr>
              <a:t>demand gentler machines</a:t>
            </a:r>
            <a:r>
              <a:rPr b="1" lang="en-US" sz="3000" spc="-1" strike="noStrike">
                <a:solidFill>
                  <a:srgbClr val="ffffff"/>
                </a:solidFill>
                <a:latin typeface="News Gothic"/>
              </a:rPr>
              <a:t> from the manufacture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820800" y="435240"/>
            <a:ext cx="8529480" cy="12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90000"/>
              </a:lnSpc>
              <a:spcAft>
                <a:spcPts val="8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News Gothic"/>
              </a:rPr>
              <a:t>Thanks for listening, and do enjoy the outdoors, everyon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52480" y="2251080"/>
            <a:ext cx="8528040" cy="21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19160" indent="-119160">
              <a:lnSpc>
                <a:spcPct val="100000"/>
              </a:lnSpc>
              <a:spcAft>
                <a:spcPts val="561"/>
              </a:spcAft>
              <a:buClr>
                <a:srgbClr val="ffff00"/>
              </a:buClr>
              <a:buSzPct val="73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98480" indent="-123840">
              <a:lnSpc>
                <a:spcPct val="100000"/>
              </a:lnSpc>
              <a:spcAft>
                <a:spcPts val="374"/>
              </a:spcAft>
              <a:buClr>
                <a:srgbClr val="ffff00"/>
              </a:buClr>
              <a:buSzPct val="61000"/>
              <a:buFont typeface="LotusWP Type"/>
              <a:buChar char="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News Gothic"/>
              </a:rPr>
              <a:t>material collected and put together by Erhard Kr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98480" indent="-123840">
              <a:lnSpc>
                <a:spcPct val="100000"/>
              </a:lnSpc>
              <a:spcAft>
                <a:spcPts val="374"/>
              </a:spcAft>
              <a:buClr>
                <a:srgbClr val="ffff00"/>
              </a:buClr>
              <a:buSzPct val="61000"/>
              <a:buFont typeface="LotusWP Type"/>
              <a:buChar char="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News Gothic"/>
              </a:rPr>
              <a:t>comments are welcom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6000" indent="-122400">
              <a:lnSpc>
                <a:spcPct val="100000"/>
              </a:lnSpc>
              <a:spcAft>
                <a:spcPts val="337"/>
              </a:spcAft>
              <a:buClr>
                <a:srgbClr val="ffff00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News Gothic"/>
              </a:rPr>
              <a:t>416-293-375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6000" indent="-122400">
              <a:lnSpc>
                <a:spcPct val="100000"/>
              </a:lnSpc>
              <a:spcAft>
                <a:spcPts val="337"/>
              </a:spcAft>
              <a:buClr>
                <a:srgbClr val="ffff00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News Gothic"/>
              </a:rPr>
              <a:t>erhard@interlog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98480" indent="-123840">
              <a:lnSpc>
                <a:spcPct val="100000"/>
              </a:lnSpc>
              <a:spcAft>
                <a:spcPts val="374"/>
              </a:spcAft>
              <a:buClr>
                <a:srgbClr val="ffff00"/>
              </a:buClr>
              <a:buSzPct val="61000"/>
              <a:buFont typeface="LotusWP Type"/>
              <a:buChar char="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News Gothic"/>
              </a:rPr>
              <a:t>November 24, 200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820800" y="435240"/>
            <a:ext cx="8529480" cy="12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90000"/>
              </a:lnSpc>
              <a:spcAft>
                <a:spcPts val="8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News Gothic"/>
              </a:rPr>
              <a:t>The ATV, an admirable piece of technolog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52480" y="2251080"/>
            <a:ext cx="8528040" cy="26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30320" indent="-130320">
              <a:lnSpc>
                <a:spcPct val="100000"/>
              </a:lnSpc>
              <a:spcAft>
                <a:spcPts val="612"/>
              </a:spcAft>
              <a:buClr>
                <a:srgbClr val="ffff00"/>
              </a:buClr>
              <a:buSzPct val="73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News Gothic"/>
              </a:rPr>
              <a:t>ATVs can go anywhere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130320" indent="-130320">
              <a:lnSpc>
                <a:spcPct val="100000"/>
              </a:lnSpc>
              <a:spcAft>
                <a:spcPts val="612"/>
              </a:spcAft>
              <a:buClr>
                <a:srgbClr val="ffff00"/>
              </a:buClr>
              <a:buSzPct val="73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News Gothic"/>
              </a:rPr>
              <a:t>ATVs are both work horse and  fun machine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130320" indent="-130320">
              <a:lnSpc>
                <a:spcPct val="100000"/>
              </a:lnSpc>
              <a:spcAft>
                <a:spcPts val="612"/>
              </a:spcAft>
              <a:buClr>
                <a:srgbClr val="ffff00"/>
              </a:buClr>
              <a:buSzPct val="73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News Gothic"/>
              </a:rPr>
              <a:t>ATVs have matured: capable, reliable, safe, and affordable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852480" y="2251080"/>
            <a:ext cx="8528040" cy="22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30320" indent="-130320">
              <a:lnSpc>
                <a:spcPct val="100000"/>
              </a:lnSpc>
              <a:spcAft>
                <a:spcPts val="612"/>
              </a:spcAft>
              <a:buClr>
                <a:srgbClr val="ffff00"/>
              </a:buClr>
              <a:buSzPct val="73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News Gothic"/>
              </a:rPr>
              <a:t>coarse tire tread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130320" indent="-130320">
              <a:lnSpc>
                <a:spcPct val="100000"/>
              </a:lnSpc>
              <a:spcAft>
                <a:spcPts val="612"/>
              </a:spcAft>
              <a:buClr>
                <a:srgbClr val="ffff00"/>
              </a:buClr>
              <a:buSzPct val="73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News Gothic"/>
              </a:rPr>
              <a:t>high torque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130320" indent="-130320">
              <a:lnSpc>
                <a:spcPct val="100000"/>
              </a:lnSpc>
              <a:spcAft>
                <a:spcPts val="612"/>
              </a:spcAft>
              <a:buClr>
                <a:srgbClr val="ffff00"/>
              </a:buClr>
              <a:buSzPct val="73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News Gothic"/>
              </a:rPr>
              <a:t>ability to carry stuff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130320" indent="-130320">
              <a:lnSpc>
                <a:spcPct val="100000"/>
              </a:lnSpc>
              <a:spcAft>
                <a:spcPts val="612"/>
              </a:spcAft>
              <a:buClr>
                <a:srgbClr val="ffff00"/>
              </a:buClr>
              <a:buSzPct val="73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News Gothic"/>
              </a:rPr>
              <a:t>engine creates noise and exhaus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20800" y="435240"/>
            <a:ext cx="8529480" cy="12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90000"/>
              </a:lnSpc>
              <a:spcAft>
                <a:spcPts val="8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News Gothic"/>
              </a:rPr>
              <a:t>But some ATV features have drawback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820800" y="1038240"/>
            <a:ext cx="8529480" cy="6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90000"/>
              </a:lnSpc>
              <a:spcAft>
                <a:spcPts val="8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News Gothic"/>
              </a:rPr>
              <a:t>ATVs on Canoe Port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52480" y="2251080"/>
            <a:ext cx="8528040" cy="21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30320" indent="-130320">
              <a:lnSpc>
                <a:spcPct val="100000"/>
              </a:lnSpc>
              <a:spcAft>
                <a:spcPts val="612"/>
              </a:spcAft>
              <a:buClr>
                <a:srgbClr val="ffff00"/>
              </a:buClr>
              <a:buSzPct val="73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News Gothic"/>
              </a:rPr>
              <a:t>ATVs damage existing trails 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130320" indent="-130320">
              <a:lnSpc>
                <a:spcPct val="100000"/>
              </a:lnSpc>
              <a:spcAft>
                <a:spcPts val="612"/>
              </a:spcAft>
              <a:buClr>
                <a:srgbClr val="ffff00"/>
              </a:buClr>
              <a:buSzPct val="73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News Gothic"/>
              </a:rPr>
              <a:t>ATVs damage the forest ecology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130320" indent="-130320">
              <a:lnSpc>
                <a:spcPct val="100000"/>
              </a:lnSpc>
              <a:spcAft>
                <a:spcPts val="612"/>
              </a:spcAft>
              <a:buClr>
                <a:srgbClr val="ffff00"/>
              </a:buClr>
              <a:buSzPct val="73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News Gothic"/>
              </a:rPr>
              <a:t>ATVs spoil the experience for other users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820800" y="1038240"/>
            <a:ext cx="8529480" cy="6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90000"/>
              </a:lnSpc>
              <a:spcAft>
                <a:spcPts val="8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News Gothic"/>
              </a:rPr>
              <a:t>Example - ATVs on Port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52480" y="2251080"/>
            <a:ext cx="8528040" cy="14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30320" indent="-130320">
              <a:lnSpc>
                <a:spcPct val="100000"/>
              </a:lnSpc>
              <a:spcAft>
                <a:spcPts val="612"/>
              </a:spcAft>
              <a:buClr>
                <a:srgbClr val="ffff00"/>
              </a:buClr>
              <a:buSzPct val="73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News Gothic"/>
              </a:rPr>
              <a:t>Here's the original trail condition </a:t>
            </a:r>
            <a:r>
              <a:rPr b="1" lang="en-US" sz="2600" spc="-1" strike="noStrike">
                <a:solidFill>
                  <a:srgbClr val="ffffff"/>
                </a:solidFill>
                <a:latin typeface="News Gothic"/>
              </a:rPr>
              <a:t>(photos taken in Kawarthas, between Cox and Triangle Lakes)</a:t>
            </a:r>
            <a:r>
              <a:rPr b="1" lang="en-US" sz="3300" spc="-1" strike="noStrike">
                <a:solidFill>
                  <a:srgbClr val="ffffff"/>
                </a:solidFill>
                <a:latin typeface="News Gothic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6529320" y="3173400"/>
            <a:ext cx="2584440" cy="37386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1927080" y="4103640"/>
            <a:ext cx="2965680" cy="32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820800" y="1038240"/>
            <a:ext cx="8529480" cy="6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90000"/>
              </a:lnSpc>
              <a:spcAft>
                <a:spcPts val="8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News Gothic"/>
              </a:rPr>
              <a:t>Example - ATVs on Port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574640" y="3137040"/>
            <a:ext cx="6015240" cy="41781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852480" y="2251080"/>
            <a:ext cx="852804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182600" indent="-189000">
              <a:lnSpc>
                <a:spcPct val="100000"/>
              </a:lnSpc>
              <a:spcAft>
                <a:spcPts val="524"/>
              </a:spcAft>
              <a:buClr>
                <a:srgbClr val="ffff00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News Gothic"/>
              </a:rPr>
              <a:t>Canoe (going straight), Snowmobile (to left) and ATV (to righ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820800" y="1038240"/>
            <a:ext cx="8529480" cy="6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90000"/>
              </a:lnSpc>
              <a:spcAft>
                <a:spcPts val="8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News Gothic"/>
              </a:rPr>
              <a:t>Example - ATVs on Port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52480" y="2251080"/>
            <a:ext cx="85280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30320" indent="-130320">
              <a:lnSpc>
                <a:spcPct val="100000"/>
              </a:lnSpc>
              <a:spcAft>
                <a:spcPts val="414"/>
              </a:spcAft>
              <a:buClr>
                <a:srgbClr val="ffff00"/>
              </a:buClr>
              <a:buSzPct val="73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News Gothic"/>
              </a:rPr>
              <a:t>The surface of the path is destroyed</a:t>
            </a:r>
            <a:r>
              <a:rPr b="1" lang="en-US" sz="2200" spc="-1" strike="noStrike">
                <a:solidFill>
                  <a:srgbClr val="ffffff"/>
                </a:solidFill>
                <a:latin typeface="News Gothic"/>
              </a:rPr>
              <a:t> (pictured at an early stage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6297480" y="2703600"/>
            <a:ext cx="3473640" cy="45892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15960" y="3324240"/>
            <a:ext cx="5373720" cy="35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422440" y="3241800"/>
            <a:ext cx="4665600" cy="379404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820800" y="1038240"/>
            <a:ext cx="8529480" cy="6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90000"/>
              </a:lnSpc>
              <a:spcAft>
                <a:spcPts val="8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News Gothic"/>
              </a:rPr>
              <a:t>Example - ATVs on Port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852480" y="2251080"/>
            <a:ext cx="8528040" cy="10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30320" indent="-130320">
              <a:lnSpc>
                <a:spcPct val="100000"/>
              </a:lnSpc>
              <a:spcAft>
                <a:spcPts val="612"/>
              </a:spcAft>
              <a:buClr>
                <a:srgbClr val="ffff00"/>
              </a:buClr>
              <a:buSzPct val="73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News Gothic"/>
              </a:rPr>
              <a:t>Low spots become mini ponds </a:t>
            </a:r>
            <a:r>
              <a:rPr b="1" lang="en-US" sz="2200" spc="-1" strike="noStrike">
                <a:solidFill>
                  <a:srgbClr val="ffffff"/>
                </a:solidFill>
                <a:latin typeface="News Gothic"/>
              </a:rPr>
              <a:t>(a real problem when you carry canoe and gear)</a:t>
            </a:r>
            <a:r>
              <a:rPr b="1" lang="en-US" sz="3300" spc="-1" strike="noStrike">
                <a:solidFill>
                  <a:srgbClr val="ffffff"/>
                </a:solidFill>
                <a:latin typeface="News Gothic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