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396-62C9-4275-8EE0-D0A3D491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739-5FFF-4DFC-BF1E-657FB44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CDF-791B-4111-9EDC-3983F68A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9C5-F653-4755-93DA-D2C8BCD2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DFA-3733-4A2D-BD0B-566F4456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A8B-BA18-4929-852E-F9EC0597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701-6023-4D78-9C2A-A63953B0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396-338B-49A8-8C70-FF2AD5B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662-C379-4450-B7CC-85B82A1D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876-89E6-48EE-978C-5826775D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FDE-9E17-420D-B652-9E90781B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0AF-64F8-49D5-8443-5DFC78EC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7AB1-A268-4AFF-BEAE-2662297195D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40760" cy="773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82800"/>
            <a:ext cx="10042560" cy="182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10040760" cy="773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02240"/>
            <a:ext cx="10042560" cy="277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3640" y="1427760"/>
            <a:ext cx="868356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00"/>
                </a:solidFill>
                <a:latin typeface="News Gothic"/>
              </a:rPr>
              <a:t> </a:t>
            </a:r>
            <a:r>
              <a:rPr b="1" lang="en-US" sz="5300" spc="-1" strike="noStrike">
                <a:solidFill>
                  <a:srgbClr val="ffff00"/>
                </a:solidFill>
                <a:latin typeface="News Gothic"/>
              </a:rPr>
              <a:t>Temagami Integrated Planning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News Gothic"/>
              </a:rPr>
              <a:t>Comments by the Wilderness Canoe Associ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6840" y="817560"/>
            <a:ext cx="813132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Toro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November 24, 20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82760" y="3294000"/>
            <a:ext cx="16174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Nat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4240" y="2241720"/>
            <a:ext cx="851544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intact forests and lak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ld growth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no erosion, garbage, pol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ATVs in protected area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motorized access only on roa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new lodges in remote lak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ffective enforcement by MN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xtent protected areas 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(old growth, native sit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000" y="4176720"/>
            <a:ext cx="582480" cy="463680"/>
          </a:xfrm>
          <a:custGeom>
            <a:avLst/>
            <a:gdLst/>
            <a:ahLst/>
            <a:rect l="l" t="t" r="r" b="b"/>
            <a:pathLst>
              <a:path w="367" h="292">
                <a:moveTo>
                  <a:pt x="367" y="0"/>
                </a:moveTo>
                <a:lnTo>
                  <a:pt x="275" y="0"/>
                </a:lnTo>
                <a:lnTo>
                  <a:pt x="82" y="150"/>
                </a:lnTo>
                <a:lnTo>
                  <a:pt x="0" y="292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5200" y="4119480"/>
            <a:ext cx="263520" cy="522360"/>
          </a:xfrm>
          <a:custGeom>
            <a:avLst/>
            <a:gdLst/>
            <a:ahLst/>
            <a:rect l="l" t="t" r="r" b="b"/>
            <a:pathLst>
              <a:path w="166" h="329">
                <a:moveTo>
                  <a:pt x="48" y="167"/>
                </a:moveTo>
                <a:lnTo>
                  <a:pt x="0" y="329"/>
                </a:lnTo>
                <a:lnTo>
                  <a:pt x="67" y="230"/>
                </a:lnTo>
                <a:lnTo>
                  <a:pt x="166" y="0"/>
                </a:lnTo>
                <a:lnTo>
                  <a:pt x="28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080" y="3713040"/>
            <a:ext cx="59040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0" y="293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40" y="3973680"/>
            <a:ext cx="189000" cy="430200"/>
          </a:xfrm>
          <a:custGeom>
            <a:avLst/>
            <a:gdLst/>
            <a:ahLst/>
            <a:rect l="l" t="t" r="r" b="b"/>
            <a:pathLst>
              <a:path w="119" h="271">
                <a:moveTo>
                  <a:pt x="0" y="271"/>
                </a:moveTo>
                <a:lnTo>
                  <a:pt x="119" y="188"/>
                </a:lnTo>
                <a:lnTo>
                  <a:pt x="115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080" y="3713040"/>
            <a:ext cx="261720" cy="516240"/>
          </a:xfrm>
          <a:custGeom>
            <a:avLst/>
            <a:gdLst/>
            <a:ahLst/>
            <a:rect l="l" t="t" r="r" b="b"/>
            <a:pathLst>
              <a:path w="165" h="325">
                <a:moveTo>
                  <a:pt x="48" y="163"/>
                </a:moveTo>
                <a:lnTo>
                  <a:pt x="0" y="0"/>
                </a:lnTo>
                <a:lnTo>
                  <a:pt x="64" y="100"/>
                </a:lnTo>
                <a:lnTo>
                  <a:pt x="165" y="325"/>
                </a:lnTo>
                <a:lnTo>
                  <a:pt x="28" y="25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0" y="397188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3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40" y="431496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4" y="56"/>
                </a:lnTo>
                <a:lnTo>
                  <a:pt x="278" y="1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8280" y="3857760"/>
            <a:ext cx="690840" cy="650880"/>
          </a:xfrm>
          <a:custGeom>
            <a:avLst/>
            <a:gdLst/>
            <a:ahLst/>
            <a:rect l="l" t="t" r="r" b="b"/>
            <a:pathLst>
              <a:path w="435" h="410">
                <a:moveTo>
                  <a:pt x="435" y="202"/>
                </a:moveTo>
                <a:lnTo>
                  <a:pt x="180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7"/>
                </a:lnTo>
                <a:lnTo>
                  <a:pt x="209" y="317"/>
                </a:lnTo>
                <a:lnTo>
                  <a:pt x="180" y="410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14240" y="2241720"/>
            <a:ext cx="85154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routes and portages stay in their original loc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the trails unobstruct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camp sites are minimal and show little disturbance from human activit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portages, shore lines and water courses are in their natural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(cont. next page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Canoe Rout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1640" y="5791320"/>
            <a:ext cx="584280" cy="46188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2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5734080"/>
            <a:ext cx="263520" cy="520560"/>
          </a:xfrm>
          <a:custGeom>
            <a:avLst/>
            <a:gdLst/>
            <a:ahLst/>
            <a:rect l="l" t="t" r="r" b="b"/>
            <a:pathLst>
              <a:path w="166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6" y="0"/>
                </a:lnTo>
                <a:lnTo>
                  <a:pt x="27" y="7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720" y="5326200"/>
            <a:ext cx="592200" cy="465120"/>
          </a:xfrm>
          <a:custGeom>
            <a:avLst/>
            <a:gdLst/>
            <a:ahLst/>
            <a:rect l="l" t="t" r="r" b="b"/>
            <a:pathLst>
              <a:path w="373" h="293">
                <a:moveTo>
                  <a:pt x="373" y="293"/>
                </a:moveTo>
                <a:lnTo>
                  <a:pt x="281" y="293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240" y="558792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" y="532764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3680" y="558648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2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2240" y="5929200"/>
            <a:ext cx="44100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0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080" y="5472000"/>
            <a:ext cx="690480" cy="64944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1"/>
                </a:moveTo>
                <a:lnTo>
                  <a:pt x="178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8" y="409"/>
                </a:lnTo>
                <a:lnTo>
                  <a:pt x="435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4240" y="2241720"/>
            <a:ext cx="851544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ll routes recorded and included in  all land use planning, suitable AOC's defin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roads within 200m of a route, and 500m of camp sites and portag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logging within viewshed, and at least 200m of route, 500m of camp sites and portag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Canoe Campsites off limits to motorized us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2735280"/>
            <a:ext cx="584280" cy="46188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2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1640" y="2678040"/>
            <a:ext cx="263520" cy="520920"/>
          </a:xfrm>
          <a:custGeom>
            <a:avLst/>
            <a:gdLst/>
            <a:ahLst/>
            <a:rect l="l" t="t" r="r" b="b"/>
            <a:pathLst>
              <a:path w="166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6" y="0"/>
                </a:lnTo>
                <a:lnTo>
                  <a:pt x="27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3720" y="2271600"/>
            <a:ext cx="592200" cy="463680"/>
          </a:xfrm>
          <a:custGeom>
            <a:avLst/>
            <a:gdLst/>
            <a:ahLst/>
            <a:rect l="l" t="t" r="r" b="b"/>
            <a:pathLst>
              <a:path w="373" h="292">
                <a:moveTo>
                  <a:pt x="373" y="292"/>
                </a:moveTo>
                <a:lnTo>
                  <a:pt x="281" y="292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2240" y="253224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720" y="227160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3680" y="253044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2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240" y="2873520"/>
            <a:ext cx="44100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0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5080" y="2416320"/>
            <a:ext cx="690480" cy="650880"/>
          </a:xfrm>
          <a:custGeom>
            <a:avLst/>
            <a:gdLst/>
            <a:ahLst/>
            <a:rect l="l" t="t" r="r" b="b"/>
            <a:pathLst>
              <a:path w="435" h="410">
                <a:moveTo>
                  <a:pt x="435" y="201"/>
                </a:moveTo>
                <a:lnTo>
                  <a:pt x="178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8" y="410"/>
                </a:lnTo>
                <a:lnTo>
                  <a:pt x="435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Canoe Routes </a:t>
            </a:r>
            <a:r>
              <a:rPr b="1" lang="en-US" sz="25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Control intrus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4240" y="2241720"/>
            <a:ext cx="851544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maintain wilderness character of remote are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trol activities that generate noise and pol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trol access in some are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(Cont. next pag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7120" y="6095880"/>
            <a:ext cx="584280" cy="46224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3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320" y="6039000"/>
            <a:ext cx="265320" cy="520560"/>
          </a:xfrm>
          <a:custGeom>
            <a:avLst/>
            <a:gdLst/>
            <a:ahLst/>
            <a:rect l="l" t="t" r="r" b="b"/>
            <a:pathLst>
              <a:path w="167" h="328">
                <a:moveTo>
                  <a:pt x="48" y="166"/>
                </a:moveTo>
                <a:lnTo>
                  <a:pt x="0" y="328"/>
                </a:lnTo>
                <a:lnTo>
                  <a:pt x="67" y="229"/>
                </a:lnTo>
                <a:lnTo>
                  <a:pt x="167" y="0"/>
                </a:lnTo>
                <a:lnTo>
                  <a:pt x="28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9200" y="5632560"/>
            <a:ext cx="592200" cy="465120"/>
          </a:xfrm>
          <a:custGeom>
            <a:avLst/>
            <a:gdLst/>
            <a:ahLst/>
            <a:rect l="l" t="t" r="r" b="b"/>
            <a:pathLst>
              <a:path w="373" h="293">
                <a:moveTo>
                  <a:pt x="373" y="293"/>
                </a:moveTo>
                <a:lnTo>
                  <a:pt x="281" y="293"/>
                </a:lnTo>
                <a:lnTo>
                  <a:pt x="88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7360" y="589284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4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9200" y="5632560"/>
            <a:ext cx="263520" cy="51408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5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800" y="5891040"/>
            <a:ext cx="43200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3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623412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4" y="56"/>
                </a:lnTo>
                <a:lnTo>
                  <a:pt x="278" y="0"/>
                </a:lnTo>
                <a:lnTo>
                  <a:pt x="55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0200" y="5776920"/>
            <a:ext cx="690480" cy="64944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2"/>
                </a:moveTo>
                <a:lnTo>
                  <a:pt x="179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9" y="409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14240" y="2241720"/>
            <a:ext cx="8515440" cy="57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ATV restrictions as abo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llow motorized access only on roa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limit size of motors on lak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control frequency of fly-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time constraints for resource activ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user fees according to impact on the lan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xtend protected areas 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(old growth, native sit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Control intrusions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4120" y="2122560"/>
            <a:ext cx="582840" cy="463320"/>
          </a:xfrm>
          <a:custGeom>
            <a:avLst/>
            <a:gdLst/>
            <a:ahLst/>
            <a:rect l="l" t="t" r="r" b="b"/>
            <a:pathLst>
              <a:path w="367" h="292">
                <a:moveTo>
                  <a:pt x="367" y="0"/>
                </a:moveTo>
                <a:lnTo>
                  <a:pt x="276" y="0"/>
                </a:lnTo>
                <a:lnTo>
                  <a:pt x="82" y="151"/>
                </a:lnTo>
                <a:lnTo>
                  <a:pt x="0" y="292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120" y="2065320"/>
            <a:ext cx="262080" cy="522360"/>
          </a:xfrm>
          <a:custGeom>
            <a:avLst/>
            <a:gdLst/>
            <a:ahLst/>
            <a:rect l="l" t="t" r="r" b="b"/>
            <a:pathLst>
              <a:path w="165" h="329">
                <a:moveTo>
                  <a:pt x="47" y="167"/>
                </a:moveTo>
                <a:lnTo>
                  <a:pt x="0" y="329"/>
                </a:lnTo>
                <a:lnTo>
                  <a:pt x="65" y="230"/>
                </a:lnTo>
                <a:lnTo>
                  <a:pt x="165" y="0"/>
                </a:lnTo>
                <a:lnTo>
                  <a:pt x="27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6200" y="1660680"/>
            <a:ext cx="59076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1" y="293"/>
                </a:lnTo>
                <a:lnTo>
                  <a:pt x="87" y="142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920" y="1920960"/>
            <a:ext cx="189000" cy="430200"/>
          </a:xfrm>
          <a:custGeom>
            <a:avLst/>
            <a:gdLst/>
            <a:ahLst/>
            <a:rect l="l" t="t" r="r" b="b"/>
            <a:pathLst>
              <a:path w="119" h="271">
                <a:moveTo>
                  <a:pt x="0" y="271"/>
                </a:moveTo>
                <a:lnTo>
                  <a:pt x="119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6200" y="1660680"/>
            <a:ext cx="263520" cy="51408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4" y="99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360" y="1919160"/>
            <a:ext cx="43200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4" y="0"/>
                </a:lnTo>
                <a:lnTo>
                  <a:pt x="272" y="53"/>
                </a:lnTo>
                <a:lnTo>
                  <a:pt x="44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920" y="2260440"/>
            <a:ext cx="441360" cy="90720"/>
          </a:xfrm>
          <a:custGeom>
            <a:avLst/>
            <a:gdLst/>
            <a:ahLst/>
            <a:rect l="l" t="t" r="r" b="b"/>
            <a:pathLst>
              <a:path w="278" h="57">
                <a:moveTo>
                  <a:pt x="0" y="57"/>
                </a:moveTo>
                <a:lnTo>
                  <a:pt x="195" y="57"/>
                </a:lnTo>
                <a:lnTo>
                  <a:pt x="278" y="1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200" y="1805040"/>
            <a:ext cx="690840" cy="64908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2"/>
                </a:moveTo>
                <a:lnTo>
                  <a:pt x="178" y="0"/>
                </a:lnTo>
                <a:lnTo>
                  <a:pt x="208" y="101"/>
                </a:lnTo>
                <a:lnTo>
                  <a:pt x="0" y="101"/>
                </a:lnTo>
                <a:lnTo>
                  <a:pt x="0" y="316"/>
                </a:lnTo>
                <a:lnTo>
                  <a:pt x="208" y="316"/>
                </a:lnTo>
                <a:lnTo>
                  <a:pt x="178" y="409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149960" y="5421240"/>
            <a:ext cx="1619280" cy="1401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6440" y="2535120"/>
            <a:ext cx="851508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Erhard K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Conservation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Wilderness Canoe Associ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tel: 416-293-375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email: erhard@interlog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2560" y="448920"/>
            <a:ext cx="851868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IP Comments,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Nov 24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News Gothic"/>
              </a:rPr>
              <a:t>What's important to the Canoeis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4240" y="2241720"/>
            <a:ext cx="851544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emagami is more than "just another canoe area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anoeists' Valu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intact Natu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intact Rout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Intrus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4240" y="2241720"/>
            <a:ext cx="85154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ver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25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large coherent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canoe rou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connected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- intact canoe routes lead off into the rest of Canad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arge stands of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old growth p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easy to reach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from Ontario's mega centr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 place where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native culture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can be touch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4240" y="2241720"/>
            <a:ext cx="8515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8280" indent="-982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over 25 large coherent canoe ro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Hap Wilson's rou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plus old Nastawga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Temagami has the potential to be recognized as the world's best canoe are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90440" y="3822840"/>
            <a:ext cx="325440" cy="260280"/>
          </a:xfrm>
          <a:custGeom>
            <a:avLst/>
            <a:gdLst/>
            <a:ahLst/>
            <a:rect l="l" t="t" r="r" b="b"/>
            <a:pathLst>
              <a:path w="205" h="164">
                <a:moveTo>
                  <a:pt x="205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9000" y="3790800"/>
            <a:ext cx="147600" cy="292320"/>
          </a:xfrm>
          <a:custGeom>
            <a:avLst/>
            <a:gdLst/>
            <a:ahLst/>
            <a:rect l="l" t="t" r="r" b="b"/>
            <a:pathLst>
              <a:path w="93" h="184">
                <a:moveTo>
                  <a:pt x="27" y="93"/>
                </a:moveTo>
                <a:lnTo>
                  <a:pt x="0" y="184"/>
                </a:lnTo>
                <a:lnTo>
                  <a:pt x="38" y="129"/>
                </a:lnTo>
                <a:lnTo>
                  <a:pt x="93" y="0"/>
                </a:lnTo>
                <a:lnTo>
                  <a:pt x="16" y="45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5760" y="3564000"/>
            <a:ext cx="330120" cy="260280"/>
          </a:xfrm>
          <a:custGeom>
            <a:avLst/>
            <a:gdLst/>
            <a:ahLst/>
            <a:rect l="l" t="t" r="r" b="b"/>
            <a:pathLst>
              <a:path w="208" h="164">
                <a:moveTo>
                  <a:pt x="208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4000" y="371016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760" y="3564000"/>
            <a:ext cx="147600" cy="28872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6" y="91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5800" y="3708360"/>
            <a:ext cx="242640" cy="47520"/>
          </a:xfrm>
          <a:custGeom>
            <a:avLst/>
            <a:gdLst/>
            <a:ahLst/>
            <a:rect l="l" t="t" r="r" b="b"/>
            <a:pathLst>
              <a:path w="153" h="30">
                <a:moveTo>
                  <a:pt x="0" y="1"/>
                </a:moveTo>
                <a:lnTo>
                  <a:pt x="108" y="0"/>
                </a:lnTo>
                <a:lnTo>
                  <a:pt x="153" y="30"/>
                </a:lnTo>
                <a:lnTo>
                  <a:pt x="24" y="24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4000" y="390060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7760" y="3645000"/>
            <a:ext cx="389160" cy="365040"/>
          </a:xfrm>
          <a:custGeom>
            <a:avLst/>
            <a:gdLst/>
            <a:ahLst/>
            <a:rect l="l" t="t" r="r" b="b"/>
            <a:pathLst>
              <a:path w="245" h="230">
                <a:moveTo>
                  <a:pt x="245" y="113"/>
                </a:moveTo>
                <a:lnTo>
                  <a:pt x="101" y="0"/>
                </a:lnTo>
                <a:lnTo>
                  <a:pt x="118" y="56"/>
                </a:lnTo>
                <a:lnTo>
                  <a:pt x="0" y="56"/>
                </a:lnTo>
                <a:lnTo>
                  <a:pt x="0" y="177"/>
                </a:lnTo>
                <a:lnTo>
                  <a:pt x="118" y="177"/>
                </a:lnTo>
                <a:lnTo>
                  <a:pt x="101" y="230"/>
                </a:lnTo>
                <a:lnTo>
                  <a:pt x="245" y="1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4240" y="2241720"/>
            <a:ext cx="8515440" cy="48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connected - intact canoe routes lead off into the rest of Canad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Kipawa R and Ottawa R to Queb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Larder R to towards James B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Wanapitei and W Montreal R to the 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Sturgeon R and Ottawa R to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an effort must be made to keep these connections: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 in- and outside of the TIP are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52360" y="5765760"/>
            <a:ext cx="327240" cy="260280"/>
          </a:xfrm>
          <a:custGeom>
            <a:avLst/>
            <a:gdLst/>
            <a:ahLst/>
            <a:rect l="l" t="t" r="r" b="b"/>
            <a:pathLst>
              <a:path w="206" h="164">
                <a:moveTo>
                  <a:pt x="206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0920" y="5734080"/>
            <a:ext cx="147600" cy="291960"/>
          </a:xfrm>
          <a:custGeom>
            <a:avLst/>
            <a:gdLst/>
            <a:ahLst/>
            <a:rect l="l" t="t" r="r" b="b"/>
            <a:pathLst>
              <a:path w="93" h="184">
                <a:moveTo>
                  <a:pt x="27" y="93"/>
                </a:moveTo>
                <a:lnTo>
                  <a:pt x="0" y="184"/>
                </a:lnTo>
                <a:lnTo>
                  <a:pt x="38" y="128"/>
                </a:lnTo>
                <a:lnTo>
                  <a:pt x="93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7680" y="5506920"/>
            <a:ext cx="331920" cy="260640"/>
          </a:xfrm>
          <a:custGeom>
            <a:avLst/>
            <a:gdLst/>
            <a:ahLst/>
            <a:rect l="l" t="t" r="r" b="b"/>
            <a:pathLst>
              <a:path w="209" h="164">
                <a:moveTo>
                  <a:pt x="209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5920" y="565308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7680" y="5506920"/>
            <a:ext cx="147600" cy="28908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7" y="92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17720" y="5653080"/>
            <a:ext cx="242640" cy="46080"/>
          </a:xfrm>
          <a:custGeom>
            <a:avLst/>
            <a:gdLst/>
            <a:ahLst/>
            <a:rect l="l" t="t" r="r" b="b"/>
            <a:pathLst>
              <a:path w="153" h="29">
                <a:moveTo>
                  <a:pt x="0" y="0"/>
                </a:moveTo>
                <a:lnTo>
                  <a:pt x="109" y="0"/>
                </a:lnTo>
                <a:lnTo>
                  <a:pt x="153" y="29"/>
                </a:lnTo>
                <a:lnTo>
                  <a:pt x="24" y="2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920" y="584352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10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1480" y="5589720"/>
            <a:ext cx="387360" cy="363240"/>
          </a:xfrm>
          <a:custGeom>
            <a:avLst/>
            <a:gdLst/>
            <a:ahLst/>
            <a:rect l="l" t="t" r="r" b="b"/>
            <a:pathLst>
              <a:path w="244" h="229">
                <a:moveTo>
                  <a:pt x="244" y="112"/>
                </a:moveTo>
                <a:lnTo>
                  <a:pt x="100" y="0"/>
                </a:lnTo>
                <a:lnTo>
                  <a:pt x="117" y="55"/>
                </a:lnTo>
                <a:lnTo>
                  <a:pt x="0" y="55"/>
                </a:lnTo>
                <a:lnTo>
                  <a:pt x="0" y="176"/>
                </a:lnTo>
                <a:lnTo>
                  <a:pt x="117" y="176"/>
                </a:lnTo>
                <a:lnTo>
                  <a:pt x="100" y="229"/>
                </a:lnTo>
                <a:lnTo>
                  <a:pt x="244" y="1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4240" y="2241720"/>
            <a:ext cx="85154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arge stands of old growth p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such stands are getting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they will be worth more standing alive than cut (tourism, science, maybe even survival of such ec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preserve these stands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4960" y="6597720"/>
            <a:ext cx="325440" cy="260280"/>
          </a:xfrm>
          <a:custGeom>
            <a:avLst/>
            <a:gdLst/>
            <a:ahLst/>
            <a:rect l="l" t="t" r="r" b="b"/>
            <a:pathLst>
              <a:path w="205" h="164">
                <a:moveTo>
                  <a:pt x="205" y="0"/>
                </a:moveTo>
                <a:lnTo>
                  <a:pt x="154" y="0"/>
                </a:lnTo>
                <a:lnTo>
                  <a:pt x="45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2080" y="6566040"/>
            <a:ext cx="149040" cy="291960"/>
          </a:xfrm>
          <a:custGeom>
            <a:avLst/>
            <a:gdLst/>
            <a:ahLst/>
            <a:rect l="l" t="t" r="r" b="b"/>
            <a:pathLst>
              <a:path w="94" h="184">
                <a:moveTo>
                  <a:pt x="28" y="93"/>
                </a:moveTo>
                <a:lnTo>
                  <a:pt x="0" y="184"/>
                </a:lnTo>
                <a:lnTo>
                  <a:pt x="39" y="128"/>
                </a:lnTo>
                <a:lnTo>
                  <a:pt x="94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30280" y="6338880"/>
            <a:ext cx="330120" cy="260280"/>
          </a:xfrm>
          <a:custGeom>
            <a:avLst/>
            <a:gdLst/>
            <a:ahLst/>
            <a:rect l="l" t="t" r="r" b="b"/>
            <a:pathLst>
              <a:path w="208" h="164">
                <a:moveTo>
                  <a:pt x="208" y="164"/>
                </a:moveTo>
                <a:lnTo>
                  <a:pt x="157" y="164"/>
                </a:lnTo>
                <a:lnTo>
                  <a:pt x="48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8520" y="6485040"/>
            <a:ext cx="104760" cy="241200"/>
          </a:xfrm>
          <a:custGeom>
            <a:avLst/>
            <a:gdLst/>
            <a:ahLst/>
            <a:rect l="l" t="t" r="r" b="b"/>
            <a:pathLst>
              <a:path w="66" h="152">
                <a:moveTo>
                  <a:pt x="0" y="152"/>
                </a:moveTo>
                <a:lnTo>
                  <a:pt x="66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30280" y="6338880"/>
            <a:ext cx="147600" cy="28908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6" y="92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6485040"/>
            <a:ext cx="243000" cy="46080"/>
          </a:xfrm>
          <a:custGeom>
            <a:avLst/>
            <a:gdLst/>
            <a:ahLst/>
            <a:rect l="l" t="t" r="r" b="b"/>
            <a:pathLst>
              <a:path w="153" h="29">
                <a:moveTo>
                  <a:pt x="0" y="0"/>
                </a:moveTo>
                <a:lnTo>
                  <a:pt x="109" y="0"/>
                </a:lnTo>
                <a:lnTo>
                  <a:pt x="153" y="29"/>
                </a:lnTo>
                <a:lnTo>
                  <a:pt x="25" y="2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8520" y="667548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1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22280" y="6421320"/>
            <a:ext cx="389160" cy="363600"/>
          </a:xfrm>
          <a:custGeom>
            <a:avLst/>
            <a:gdLst/>
            <a:ahLst/>
            <a:rect l="l" t="t" r="r" b="b"/>
            <a:pathLst>
              <a:path w="245" h="229">
                <a:moveTo>
                  <a:pt x="245" y="112"/>
                </a:moveTo>
                <a:lnTo>
                  <a:pt x="101" y="0"/>
                </a:lnTo>
                <a:lnTo>
                  <a:pt x="118" y="55"/>
                </a:lnTo>
                <a:lnTo>
                  <a:pt x="0" y="55"/>
                </a:lnTo>
                <a:lnTo>
                  <a:pt x="0" y="176"/>
                </a:lnTo>
                <a:lnTo>
                  <a:pt x="118" y="176"/>
                </a:lnTo>
                <a:lnTo>
                  <a:pt x="101" y="229"/>
                </a:lnTo>
                <a:lnTo>
                  <a:pt x="245" y="1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4240" y="2241720"/>
            <a:ext cx="8515440" cy="47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easy to reach from Ontario's mega cent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already now a spill-over area for Algonquin and other southern p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future road improvements will "shorten" the distanc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look 50 or 100 years ahead - one large urban area that needs room for 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4240" y="2241720"/>
            <a:ext cx="851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 place where native culture can be touch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a large number of pictographs and spiritual si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the old trails documented and mapp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a First Nation community that has managed to interact with the canoeing commun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support FN requests to make greater allowance for spiritu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24080" y="6451560"/>
            <a:ext cx="326880" cy="258840"/>
          </a:xfrm>
          <a:custGeom>
            <a:avLst/>
            <a:gdLst/>
            <a:ahLst/>
            <a:rect l="l" t="t" r="r" b="b"/>
            <a:pathLst>
              <a:path w="206" h="163">
                <a:moveTo>
                  <a:pt x="206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3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2280" y="6419880"/>
            <a:ext cx="147600" cy="290520"/>
          </a:xfrm>
          <a:custGeom>
            <a:avLst/>
            <a:gdLst/>
            <a:ahLst/>
            <a:rect l="l" t="t" r="r" b="b"/>
            <a:pathLst>
              <a:path w="93" h="183">
                <a:moveTo>
                  <a:pt x="27" y="93"/>
                </a:moveTo>
                <a:lnTo>
                  <a:pt x="0" y="183"/>
                </a:lnTo>
                <a:lnTo>
                  <a:pt x="38" y="128"/>
                </a:lnTo>
                <a:lnTo>
                  <a:pt x="93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040" y="6192720"/>
            <a:ext cx="331920" cy="260640"/>
          </a:xfrm>
          <a:custGeom>
            <a:avLst/>
            <a:gdLst/>
            <a:ahLst/>
            <a:rect l="l" t="t" r="r" b="b"/>
            <a:pathLst>
              <a:path w="209" h="164">
                <a:moveTo>
                  <a:pt x="209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633888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040" y="6192720"/>
            <a:ext cx="147960" cy="287280"/>
          </a:xfrm>
          <a:custGeom>
            <a:avLst/>
            <a:gdLst/>
            <a:ahLst/>
            <a:rect l="l" t="t" r="r" b="b"/>
            <a:pathLst>
              <a:path w="93" h="181">
                <a:moveTo>
                  <a:pt x="26" y="91"/>
                </a:moveTo>
                <a:lnTo>
                  <a:pt x="0" y="0"/>
                </a:lnTo>
                <a:lnTo>
                  <a:pt x="36" y="56"/>
                </a:lnTo>
                <a:lnTo>
                  <a:pt x="93" y="181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6337440"/>
            <a:ext cx="243000" cy="47520"/>
          </a:xfrm>
          <a:custGeom>
            <a:avLst/>
            <a:gdLst/>
            <a:ahLst/>
            <a:rect l="l" t="t" r="r" b="b"/>
            <a:pathLst>
              <a:path w="153" h="30">
                <a:moveTo>
                  <a:pt x="0" y="1"/>
                </a:moveTo>
                <a:lnTo>
                  <a:pt x="108" y="0"/>
                </a:lnTo>
                <a:lnTo>
                  <a:pt x="153" y="30"/>
                </a:lnTo>
                <a:lnTo>
                  <a:pt x="24" y="24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652932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2840" y="6273720"/>
            <a:ext cx="387360" cy="363600"/>
          </a:xfrm>
          <a:custGeom>
            <a:avLst/>
            <a:gdLst/>
            <a:ahLst/>
            <a:rect l="l" t="t" r="r" b="b"/>
            <a:pathLst>
              <a:path w="244" h="229">
                <a:moveTo>
                  <a:pt x="244" y="113"/>
                </a:moveTo>
                <a:lnTo>
                  <a:pt x="100" y="0"/>
                </a:lnTo>
                <a:lnTo>
                  <a:pt x="117" y="56"/>
                </a:lnTo>
                <a:lnTo>
                  <a:pt x="0" y="56"/>
                </a:lnTo>
                <a:lnTo>
                  <a:pt x="0" y="177"/>
                </a:lnTo>
                <a:lnTo>
                  <a:pt x="117" y="177"/>
                </a:lnTo>
                <a:lnTo>
                  <a:pt x="100" y="229"/>
                </a:lnTo>
                <a:lnTo>
                  <a:pt x="244" y="1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4240" y="2241720"/>
            <a:ext cx="851544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View Temagami in its Larger Context and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Preserve its Value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keep and extend protected are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direct high-impact usage away fr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protected and sensitiv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canoe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FN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encourage soft-shoed use of the lan</a:t>
            </a: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7680" y="4532400"/>
            <a:ext cx="582480" cy="461880"/>
          </a:xfrm>
          <a:custGeom>
            <a:avLst/>
            <a:gdLst/>
            <a:ahLst/>
            <a:rect l="l" t="t" r="r" b="b"/>
            <a:pathLst>
              <a:path w="367" h="291">
                <a:moveTo>
                  <a:pt x="367" y="0"/>
                </a:moveTo>
                <a:lnTo>
                  <a:pt x="276" y="0"/>
                </a:lnTo>
                <a:lnTo>
                  <a:pt x="82" y="149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680" y="4475160"/>
            <a:ext cx="261720" cy="520560"/>
          </a:xfrm>
          <a:custGeom>
            <a:avLst/>
            <a:gdLst/>
            <a:ahLst/>
            <a:rect l="l" t="t" r="r" b="b"/>
            <a:pathLst>
              <a:path w="165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5" y="0"/>
                </a:lnTo>
                <a:lnTo>
                  <a:pt x="27" y="7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760" y="4067280"/>
            <a:ext cx="59040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1" y="293"/>
                </a:lnTo>
                <a:lnTo>
                  <a:pt x="87" y="144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7920" y="4329000"/>
            <a:ext cx="187200" cy="428760"/>
          </a:xfrm>
          <a:custGeom>
            <a:avLst/>
            <a:gdLst/>
            <a:ahLst/>
            <a:rect l="l" t="t" r="r" b="b"/>
            <a:pathLst>
              <a:path w="118" h="270">
                <a:moveTo>
                  <a:pt x="0" y="270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" y="406872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9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360" y="4327560"/>
            <a:ext cx="430200" cy="84240"/>
          </a:xfrm>
          <a:custGeom>
            <a:avLst/>
            <a:gdLst/>
            <a:ahLst/>
            <a:rect l="l" t="t" r="r" b="b"/>
            <a:pathLst>
              <a:path w="271" h="53">
                <a:moveTo>
                  <a:pt x="0" y="1"/>
                </a:moveTo>
                <a:lnTo>
                  <a:pt x="192" y="0"/>
                </a:lnTo>
                <a:lnTo>
                  <a:pt x="271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7920" y="466884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1"/>
                </a:lnTo>
                <a:lnTo>
                  <a:pt x="55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760" y="4213080"/>
            <a:ext cx="689040" cy="649440"/>
          </a:xfrm>
          <a:custGeom>
            <a:avLst/>
            <a:gdLst/>
            <a:ahLst/>
            <a:rect l="l" t="t" r="r" b="b"/>
            <a:pathLst>
              <a:path w="434" h="409">
                <a:moveTo>
                  <a:pt x="434" y="201"/>
                </a:moveTo>
                <a:lnTo>
                  <a:pt x="179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9" y="409"/>
                </a:lnTo>
                <a:lnTo>
                  <a:pt x="434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